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0.jpeg" ContentType="image/jpeg"/>
  <Override PartName="/ppt/media/image11.wmf" ContentType="image/x-wmf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dt" idx="47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 type="ftr" idx="48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 type="sldNum" idx="49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CD1BCDC-0F7B-4F90-9F32-C88197854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3"/>
          <p:cNvSpPr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2000193-2FD6-4D91-BA56-FAAD46E4D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7FD3194-E066-4EAB-BA1B-38993EAD9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Date Placeholder 3"/>
          <p:cNvSpPr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65" name="Slide Number Placeholder 4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3EFD309-FFC6-449D-8F9B-8F2A3E68C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Date Placeholder 3"/>
          <p:cNvSpPr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69" name="Slide Number Placeholder 4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77CDF8C-3B54-4F2F-AD24-FC7855E39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B0645FF-7965-46C1-A40D-87485EAEF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94DFE20-9FEB-4D10-8360-81CB95584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4C77491-F1C5-493C-8945-B8362A407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836EA99-4407-44B7-A8B9-89EBAEACB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-1077840" y="46080"/>
            <a:ext cx="9166320" cy="6873840"/>
          </a:xfrm>
          <a:prstGeom prst="rect">
            <a:avLst/>
          </a:prstGeom>
          <a:ln w="0">
            <a:noFill/>
          </a:ln>
        </p:spPr>
      </p:sp>
      <p:sp>
        <p:nvSpPr>
          <p:cNvPr id="1282" name="Text Box 3"/>
          <p:cNvSpPr/>
          <p:nvPr/>
        </p:nvSpPr>
        <p:spPr>
          <a:xfrm>
            <a:off x="187920" y="6978600"/>
            <a:ext cx="8843040" cy="12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7480" tIns="86400" bIns="86400" anchor="t">
            <a:spAutoFit/>
          </a:bodyPr>
          <a:p>
            <a:pPr>
              <a:spcBef>
                <a:spcPts val="326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99cc00"/>
                </a:solidFill>
                <a:latin typeface="Arial"/>
              </a:rPr>
              <a:t>Ensure early involvement by asking people for their expectations</a:t>
            </a:r>
            <a:endParaRPr b="0" lang="en-US" sz="1300" spc="-1" strike="noStrike">
              <a:solidFill>
                <a:srgbClr val="7b0a14"/>
              </a:solidFill>
              <a:latin typeface="Arial"/>
            </a:endParaRPr>
          </a:p>
          <a:p>
            <a:pPr>
              <a:spcBef>
                <a:spcPts val="326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99cc00"/>
                </a:solidFill>
                <a:latin typeface="Arial"/>
              </a:rPr>
              <a:t>Remove the word training from the slide</a:t>
            </a:r>
            <a:endParaRPr b="0" lang="en-US" sz="1300" spc="-1" strike="noStrike">
              <a:solidFill>
                <a:srgbClr val="7b0a14"/>
              </a:solidFill>
              <a:latin typeface="Arial"/>
            </a:endParaRPr>
          </a:p>
          <a:p>
            <a:pPr>
              <a:spcBef>
                <a:spcPts val="326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99cc00"/>
                </a:solidFill>
                <a:latin typeface="Arial"/>
              </a:rPr>
              <a:t>Convey our expectations to the group and dwell on them for a couple of minutes. Normal expectations will be</a:t>
            </a:r>
            <a:endParaRPr b="0" lang="en-US" sz="1300" spc="-1" strike="noStrike">
              <a:solidFill>
                <a:srgbClr val="7b0a14"/>
              </a:solidFill>
              <a:latin typeface="Arial"/>
            </a:endParaRPr>
          </a:p>
          <a:p>
            <a:pPr>
              <a:spcBef>
                <a:spcPts val="326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99cc00"/>
                </a:solidFill>
                <a:latin typeface="Arial"/>
              </a:rPr>
              <a:t>An interactive session, active participation, no holding back from asking doubts, speak out any apprehensions</a:t>
            </a:r>
            <a:endParaRPr b="0" lang="en-US" sz="13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Date Placeholder 3"/>
          <p:cNvSpPr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86" name="Slide Number Placeholder 4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DD7FC7C-995A-44E0-AD78-00EE86068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FB590F2-89D4-4BBC-A8E7-12D281930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-1077840" y="46080"/>
            <a:ext cx="9166320" cy="6873840"/>
          </a:xfrm>
          <a:prstGeom prst="rect">
            <a:avLst/>
          </a:prstGeom>
          <a:ln w="0">
            <a:noFill/>
          </a:ln>
        </p:spPr>
      </p:sp>
      <p:sp>
        <p:nvSpPr>
          <p:cNvPr id="1289" name="Text Box 3"/>
          <p:cNvSpPr/>
          <p:nvPr/>
        </p:nvSpPr>
        <p:spPr>
          <a:xfrm>
            <a:off x="187920" y="6978600"/>
            <a:ext cx="8843040" cy="12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7480" tIns="86400" bIns="86400" anchor="t">
            <a:spAutoFit/>
          </a:bodyPr>
          <a:p>
            <a:pPr>
              <a:spcBef>
                <a:spcPts val="326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99cc00"/>
                </a:solidFill>
                <a:latin typeface="Arial"/>
              </a:rPr>
              <a:t>Ensure early involvement by asking people for their expectations</a:t>
            </a:r>
            <a:endParaRPr b="0" lang="en-US" sz="1300" spc="-1" strike="noStrike">
              <a:solidFill>
                <a:srgbClr val="7b0a14"/>
              </a:solidFill>
              <a:latin typeface="Arial"/>
            </a:endParaRPr>
          </a:p>
          <a:p>
            <a:pPr>
              <a:spcBef>
                <a:spcPts val="326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99cc00"/>
                </a:solidFill>
                <a:latin typeface="Arial"/>
              </a:rPr>
              <a:t>Remove the word training from the slide</a:t>
            </a:r>
            <a:endParaRPr b="0" lang="en-US" sz="1300" spc="-1" strike="noStrike">
              <a:solidFill>
                <a:srgbClr val="7b0a14"/>
              </a:solidFill>
              <a:latin typeface="Arial"/>
            </a:endParaRPr>
          </a:p>
          <a:p>
            <a:pPr>
              <a:spcBef>
                <a:spcPts val="326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99cc00"/>
                </a:solidFill>
                <a:latin typeface="Arial"/>
              </a:rPr>
              <a:t>Convey our expectations to the group and dwell on them for a couple of minutes. Normal expectations will be</a:t>
            </a:r>
            <a:endParaRPr b="0" lang="en-US" sz="1300" spc="-1" strike="noStrike">
              <a:solidFill>
                <a:srgbClr val="7b0a14"/>
              </a:solidFill>
              <a:latin typeface="Arial"/>
            </a:endParaRPr>
          </a:p>
          <a:p>
            <a:pPr>
              <a:spcBef>
                <a:spcPts val="326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99cc00"/>
                </a:solidFill>
                <a:latin typeface="Arial"/>
              </a:rPr>
              <a:t>An interactive session, active participation, no holding back from asking doubts, speak out any apprehensions</a:t>
            </a:r>
            <a:endParaRPr b="0" lang="en-US" sz="13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3"/>
          <p:cNvSpPr/>
          <p:nvPr/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9987259-69BD-46BB-B541-F8E0F60815B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91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CC6B993-ADC6-42EB-A3B8-ADF0A61B6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3"/>
          <p:cNvSpPr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31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ADEBE12-65D9-41F7-8CEC-AC365EF58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Date Placeholder 3"/>
          <p:cNvSpPr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37" name="Slide Number Placeholder 4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4793196-F04B-45DF-A1EF-7DAA4C8B9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Date Placeholder 3"/>
          <p:cNvSpPr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41" name="Slide Number Placeholder 4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1712C14-EB12-401D-A022-D2037EA2E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97990C9-2A2D-4C02-B9B5-0618F5B18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Date Placeholder 3"/>
          <p:cNvSpPr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48" name="Slide Number Placeholder 4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C55B02B-7033-41FA-8EA4-C447F20A0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Date Placeholder 3"/>
          <p:cNvSpPr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52" name="Slide Number Placeholder 4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3437C81-3389-4CC3-A6E4-0A6A8E32E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274BA70-E609-4848-B6C2-2C8C7B9B9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11AA136-D4A0-4A72-A7C9-8425A508F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C1003C-90F5-4C78-B8A1-E4C027583C0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9E7B19-079C-4280-94F9-ED14CCA3A75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F07E18-1ACF-446E-87E2-9C2E3B50482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C91D89-E1F9-4FEC-BE34-DE98B0A5C3F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C8369E-2BC0-4D9F-A1B3-9922491F358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4D53F2-6AFA-418A-9EE9-1E09EFD3641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504C1C-2747-4C28-8A88-A149D26B16C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AB1D84-895E-4319-BA68-0369C972CAA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8F443F-54AC-4EDC-9320-2A7AD8D6993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013EB8-0C89-45D1-AA56-FA64118E2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EF4F36-9745-4766-B1BF-920C50BD169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C8348B-023D-487E-8915-1B457705534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141A57-A27D-43D1-AA35-9266522FF4A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267B72-D60B-411F-BB0C-A5936D74357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FAC1D4-2C4D-4F3B-B8A2-709A6579FFE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5D14C4-E962-4042-BFC8-855C22D1DFD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D241CF-F818-4031-A379-9F04DE715FD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341B2E-4BBE-467B-841D-D4478D02718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233711-5B25-4DE5-A978-776C284BDFD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70AC75-8A5F-420F-9AB5-E12CFEF6B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B229D1-76C1-4731-951F-BB725B13578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307DA-81AA-46EE-8935-DC3E42F7F0A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C3D45-3226-4708-A611-2391DA6D9EB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F961E-4FB4-4E88-94FF-5DB1436DBC6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3109E-C0A6-4358-9EBC-43AF32627FF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25B4C-2C37-4B4E-890F-876D090CB6F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6BF44-59DC-4E53-8FE9-EFDB2E9720E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F5950-555B-4813-9574-C9620A7DBFC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56906-B2D9-4411-8E6D-4C79B9121C7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CBCA6-CB76-463B-B330-3EFBBFFEE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E1139-F346-4C7F-B59B-CC3868E8CF7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D104F-8515-4D34-9017-79E97979C58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A6B38-327B-4B45-BE7C-36579945E13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A142D4-9EA3-45A9-A87E-BF847E2ABC8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4634E6-CDD2-4743-B202-8EBAE323878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C91D84-F60E-451D-A380-59398DD4519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92F8A8-734D-4508-8B70-A8E93F6E4D6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041AAC-F284-4038-A7CE-489F42AE763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210D9F-EE70-480C-8BC6-E59738DA5DC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BCCA8C-692C-448C-BB02-24451DFDB9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B74E07-0AE1-4BB4-BFE5-911F2B84BDE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D662FD-E83A-4141-804E-687D9A461A5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D07D60-E8CD-49E8-9E8D-93C69144AC1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0E3714-236D-4BBC-9414-1D8FA230BB6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711C35-2BDC-4191-B28C-CD06D59A4FB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8FF940-177F-4CC6-B9D3-F51B8E0F888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CB9314-6D15-4107-B95E-08F471939E1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906A4D-75DA-4F12-9A7A-75C95F1B8AF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7B38FE-7D37-4140-8430-B74EE1DDD4D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C6051F-E6A6-4859-8578-1E7B4D0E4E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4C43F1-1D5F-4A1B-B2AB-5E2A250594D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1245EB-A1D3-42A5-8592-31D6E7A7467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8C88FE-EC75-4D35-A705-971DD2E8C2A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B38398-3A01-4F1F-99C9-4FAE90CFA89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01C957-E528-485B-A57A-EBBB4A7326C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29FABA-4B61-48F6-9B4D-D597A9F23E5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D9C5F8-D195-4828-9962-27C0CCDF37F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B3365-3C75-486C-A793-F073C1B431A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0886E-4958-4926-92F2-34E8C7F5D5B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5A7AB-A610-4F2E-BFC7-8DC39BC764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141D8-A8C6-4840-BE7A-2862F2D79C3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7FD26-BAF1-489B-83CE-0D98D72A4FC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98364-E1DF-447A-9211-D0F4D94D2E0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20EAC-03E3-4DA1-83CE-A370A0B1DBA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ABEAA-3D1C-485D-B768-C90E5AF0719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3C05F-1F39-47B1-BA6C-DA257D32EFD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28ABD-1655-4981-A786-076A8F53855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6E8D7-0A98-4AEA-8F11-8180804357D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BE0F1-40E9-4D1C-8C73-93909D3E376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0B156-DD1E-438F-8502-7C11C1C0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E8EE1-1852-4E0C-ABC2-F6E26348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3FE38-96B6-42EC-BC5F-6775F52D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97A63-7682-4F40-B479-CB9D8ECC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0323A-2869-40D5-ACD5-99B27A23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A6251-B5B4-412D-9F93-3D8BEBDB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AFC33-4ABB-4A03-BBA8-AFEE0E9B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4BEE1-71AF-46FA-8B07-FA0253C8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B95E8-99E7-4059-BA5B-BAFB8D17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AADB5-DDF3-4A84-B3CA-251C6DC4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FC0F8-E88A-43F0-B30F-7A44A024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389AB-D08B-48AF-8BF1-4CA5767C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32454-C01B-4F9A-B260-82C324C7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595CA-3431-4D10-AA07-D9CE3FA5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DDFC0-BAB8-4D81-8B68-E8669610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05BD2-4A4A-49E2-8AAD-EB65A56B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46350-D069-4B8D-B745-0DAC79C0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D1E46-BEB1-4DD0-A044-BC105571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04E65-91AC-4729-8A38-707B5702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2F8B0-C649-4E33-AD94-CBD1A8D9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D5298-ABD2-44EA-9CD8-4B8E3F6C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76AD0-9850-419D-BE9C-121271B0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AD340-B46B-4909-BEA9-3F02E787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C303A-7B04-4D49-9CB4-A6A2F983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04904-717D-4DA4-A0BC-89167C39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FDBD4-45E1-43E5-BEAA-DF7E1EC8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B26BD-F0D5-47CD-9F01-E2EDFC20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89566-EF86-447B-AB54-0067137B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A6FF2-F1C9-4FD2-B27B-70877029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98C8D-E1AA-4768-AF06-61B95D53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1E3DD-2E4A-42C0-906D-1A6FB234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3DCE4-0B95-437C-9B4B-112947D3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4D8EF-A848-417E-90B8-B93759EC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B85D1-15A8-4892-9643-B23CBDF3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AC6F3-5F95-4E16-9872-679C477D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9AE51-05FB-4E0E-98E8-20E69426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DFC10-38FF-4D5F-B4B4-F16E0F7D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F4129-5407-48D4-88A2-DB0E92A2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F5704-3E63-4D33-B394-F2D8FD82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CF311-CD1D-49DA-A5B0-3992BF9A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FEDF3-5CC5-4307-8635-68D49FCE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1BF32-B3BE-4B1F-A99D-2DB01E94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D662C-7028-4BEF-BCB9-CC9DBDA6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077FD-6D57-42CA-BAF1-324F233D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02F4C-95DA-4175-9BA2-6121B08D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598F1-CC8C-4BBA-831B-9E188D58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94759-E171-4EDE-9FF5-12267C02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F95D4-0898-4B83-959A-32F5964D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143E9-64DA-466E-A6F1-C9A25015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52DBF-B65D-4739-BBB6-EAAFCF0A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5E434-E99E-44E5-BCAF-D78D023F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96D699-D7AB-4F82-BBE2-7D4282F8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0C231-45F1-4258-A56A-A0A5DA17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75F6B-EE5A-4A6D-A874-204688D1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D7507-97F4-4452-A13E-C5D6B1F8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E8E70-C1D4-4644-90FE-BEFFE9B7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33CED-6D4F-4E7D-A746-FD37428F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E559F-9020-432A-8593-4179D76B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F8481-C539-4132-8BD0-9FAAE09C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0024D-2EAB-4968-B2E9-6E489281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9A126A-23F8-4343-A817-54331A98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F5CE3-81B2-44D4-B542-901FBAE7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8E70FE-A137-4937-8CFA-C6DCD39B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3D78DE-EB39-41B3-ACCD-5DCF082F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658D83-B633-4A82-806D-7E95A0C3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7FE929-403C-4024-837F-674CC0FA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027D17-E3C2-46EB-9321-32775963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4308B7-F4A2-4015-A5DA-F95C4450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E21352-DD89-4D89-A83E-65C3AF47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C62FE1-0A02-40F5-9B93-BF27CD69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DE4DE2-8121-4EE6-AD25-1BE33FD4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982005-9B8A-405B-B730-D3B1A017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701161-D963-40F0-B5DD-79AE171A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6DB4C6-1DD3-4ABF-9335-77E82E95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34A19C-A222-46B0-A6CD-505BD315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256A0B-03C7-45AA-8BC3-5A8B1EFE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22BF31-7EEB-4EFF-AD9F-A74C3F0B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1AD5D3-642D-4C3B-8AD1-66F94B09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E2FCC9-C5B6-4B11-BE31-F9B3C354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CED24E-2BF6-4533-ABB7-EE9BDA96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35F33F-1FDD-4F96-80E3-9165157B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CAAF6B-1B54-41AA-AAA3-6C3D8A21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45D562-741E-4723-A974-07AF6360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77AE5B-1A46-4FAE-967B-D175C8E2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E5C9A0-B598-44BC-983E-46F91C4A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1A7DE7-8A3E-4A05-A173-8BDAB5F7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90B57B-B40E-4AE9-AB30-8075908F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AA749B-8E3C-447F-BC81-DE13BC32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569E06-31D1-43FA-903A-6CCC1865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9EC3FC-42AD-44E2-8142-8C7A57F1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CD81EA-E972-4A0B-A930-76374F4E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BA1DCD-B88E-4367-B6CA-AE8127EA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958BC2-7F85-4163-89A4-549D1CDA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313915-80C9-4292-805F-4B24173F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9255B6-D917-4D5A-B274-02A72F8C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15D394-8B82-4027-821F-F66E18FD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CC361-1A30-4250-BD88-4013B60F49E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FF39-19E5-4892-B183-5F83FEED72C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FBD70-A7CB-4F34-90A8-9B6BB6C2F4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7AFE3-8438-496B-8BF7-53DB49E5B59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32710-EA10-4382-8702-5173688ED27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66C7F-37C2-47A7-83EC-3EE8A99BBA2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63AE4-58E8-4AFB-9A29-324E01412DA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2D93D-AE56-4935-A43F-CB92BC3FBB9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B2B2-B1B1-4177-A838-A6E5A927D8F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9091-DDCF-44D5-887C-A28A5B8520E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D9EB8-ECC7-40C8-8E29-4E046088B36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7B539-06A6-445E-A1F0-B2B844D7C11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EB6E-A0EC-4CD3-BF8B-1F76A1166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C367-2DCF-48E3-A8B0-CAE9907E789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789D-CCC1-4374-8E00-B22A325A3BE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10EB-640B-4AF7-BAB2-8BCAC795CA0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D732-CF87-4DC4-B8AF-7C39A067ADE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9043-9288-4101-B46B-4B9348D6221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639F-0662-4F96-80E1-D57565285BE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1701-384B-4F7B-BBBB-F29FACB5419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FCC2-6B72-4610-A618-B97D706B1CA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FDA0-D169-4A35-B4FE-FB05EF2C741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CAA5-9EF2-48D2-8FF0-BBEE0D898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7664-CE7F-4023-9E8C-A32D93F5422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2749B-DF2A-4780-BFAB-85C6C2A32AA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0A445-F749-43A5-BE25-E34F5BEDA2C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8D12B-7A80-49F2-8688-CCF2EBC42C4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340C7-4092-479A-B008-087789BE648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F0FEA-43D7-4561-BDEB-7910B9EA3A1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B2CEE-82DF-4B98-A728-BA937B897E9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07E4B-1D30-46A9-8EB7-5EF7726802B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8AB3E-FC1D-4959-BAD4-ABD741423EC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B622D-3DD5-4F2A-B773-4E2F14026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8CFA2-2DDB-4DC7-BBCA-60D422A9177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4E865-831D-4A85-A52B-259F94E2320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7617D-A378-4336-93CE-4FB4EA632A8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3A59B8-4CC8-45B1-893F-7E8C218E7C7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EE5034-2B14-425A-9320-A3EAE815CE3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BAF1CF-CF47-4FDD-8A09-B37142698E9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280145-A5D6-4100-A927-9899556D8D7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E32D8B-5013-43E6-B721-49ACF2763DD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7E8B97-A1A3-436E-9864-75382987472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D0BE4F-6ED5-4A81-BA32-79CA7D6B4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E4DE35-3831-440A-B153-F629E60B74E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4BB556-9A3C-4324-8A24-F6A05BA330E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584676-AE4B-4B20-8FF4-C7D325E03BF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4F89A6-E80E-4242-BB62-0490E746C62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FFE39A-4489-4B64-B05B-B1FC0062CE5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C5137-2302-4E21-811B-7FAB6F60974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C0C79-EC2E-4A63-9E95-2ACD88897B9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A26FC-F9C2-4C66-A193-55DA776CFA4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CA0A3-4A33-42C1-A386-3BC75C7C195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ACF48-0B53-4176-B267-B7D2B951A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EB7A9-5CEF-4E3D-8921-B976787DAAB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AC537-9313-48DF-AA14-5D96D0F981E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2A883-A545-4809-8BBF-34E239F8B69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BF961-EA3B-48AE-AAFF-AE65F5AA7A5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4E54E-4ED4-48BA-93B8-A91FA1E55E8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CE46B-7327-45E0-A4CD-C45F2933850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5A0FB-C240-4EB0-A6AD-CBFB45CD807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6C23B9-E925-44FD-9CB7-8D268BC3834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C9590E-548D-413D-BEB9-AC56543A496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C26FB5-49CD-4B9E-A862-5101B370D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Wingdings" charset="2"/>
              <a:buChar char="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3" marL="10350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4" marL="1143000" indent="-1080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5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6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pic>
        <p:nvPicPr>
          <p:cNvPr id="2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4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d8b84"/>
                </a:solidFill>
                <a:latin typeface="Arial"/>
              </a:rPr>
              <a:t>Slide </a:t>
            </a:r>
            <a:fld id="{9D1F440C-16DD-4FAC-8675-622BE5297676}" type="slidenum">
              <a:rPr b="0" lang="en-US" sz="1100" spc="-1" strike="noStrike">
                <a:solidFill>
                  <a:srgbClr val="fd8b84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383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d8b84"/>
                </a:solidFill>
                <a:latin typeface="Arial"/>
              </a:rPr>
              <a:t>Slide </a:t>
            </a:r>
            <a:fld id="{D33FA796-035A-4653-AAF4-93FB46B8DB5E}" type="slidenum">
              <a:rPr b="0" lang="en-US" sz="1100" spc="-1" strike="noStrike">
                <a:solidFill>
                  <a:srgbClr val="fd8b84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Wingdings" charset="2"/>
              <a:buChar char="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3" marL="10350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4" marL="1143000" indent="-1080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5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6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Num" idx="13"/>
          </p:nvPr>
        </p:nvSpPr>
        <p:spPr>
          <a:xfrm>
            <a:off x="6810120" y="6549840"/>
            <a:ext cx="2158920" cy="1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451F51B-A7D6-4B57-9602-ED4EEDFACE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14"/>
          </p:nvPr>
        </p:nvSpPr>
        <p:spPr>
          <a:xfrm>
            <a:off x="168120" y="6367320"/>
            <a:ext cx="5399280" cy="1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426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d8b84"/>
                </a:solidFill>
                <a:latin typeface="Arial"/>
              </a:rPr>
              <a:t>Slide </a:t>
            </a:r>
            <a:fld id="{BAD09926-CB70-4A38-BAC7-DE0657F14EE8}" type="slidenum">
              <a:rPr b="0" lang="en-US" sz="1100" spc="-1" strike="noStrike">
                <a:solidFill>
                  <a:srgbClr val="fd8b84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Wingdings" charset="2"/>
              <a:buChar char="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3" marL="10350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4" marL="1143000" indent="-1080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5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6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15"/>
          </p:nvPr>
        </p:nvSpPr>
        <p:spPr>
          <a:xfrm>
            <a:off x="6810120" y="6549840"/>
            <a:ext cx="2158920" cy="1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5B1F294-C214-4844-967B-B1ECA56149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16"/>
          </p:nvPr>
        </p:nvSpPr>
        <p:spPr>
          <a:xfrm>
            <a:off x="168120" y="6367320"/>
            <a:ext cx="5399280" cy="1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469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d8b84"/>
                </a:solidFill>
                <a:latin typeface="Arial"/>
              </a:rPr>
              <a:t>Slide </a:t>
            </a:r>
            <a:fld id="{8109DE39-CDE0-4E25-B584-FB876EA4F535}" type="slidenum">
              <a:rPr b="0" lang="en-US" sz="1100" spc="-1" strike="noStrike">
                <a:solidFill>
                  <a:srgbClr val="fd8b84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Wingdings" charset="2"/>
              <a:buChar char="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3" marL="10350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4" marL="1143000" indent="-1080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5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6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17"/>
          </p:nvPr>
        </p:nvSpPr>
        <p:spPr>
          <a:xfrm>
            <a:off x="6810120" y="6549840"/>
            <a:ext cx="2158920" cy="1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E226885-23A1-4516-A0BC-209B3C89A7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18"/>
          </p:nvPr>
        </p:nvSpPr>
        <p:spPr>
          <a:xfrm>
            <a:off x="168120" y="6367320"/>
            <a:ext cx="5399280" cy="1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512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d8b84"/>
                </a:solidFill>
                <a:latin typeface="Arial"/>
              </a:rPr>
              <a:t>Slide </a:t>
            </a:r>
            <a:fld id="{28A761A1-1468-44F8-B11D-A70110790A87}" type="slidenum">
              <a:rPr b="0" lang="en-US" sz="1100" spc="-1" strike="noStrike">
                <a:solidFill>
                  <a:srgbClr val="fd8b84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Wingdings" charset="2"/>
              <a:buChar char="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3" marL="10350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4" marL="1143000" indent="-1080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5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6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Num" idx="19"/>
          </p:nvPr>
        </p:nvSpPr>
        <p:spPr>
          <a:xfrm>
            <a:off x="6810120" y="6549840"/>
            <a:ext cx="2158920" cy="1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A19FBFA-F723-4F57-BCEA-936E84F7C8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0"/>
          </p:nvPr>
        </p:nvSpPr>
        <p:spPr>
          <a:xfrm>
            <a:off x="168120" y="6367320"/>
            <a:ext cx="5399280" cy="1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555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d8b84"/>
                </a:solidFill>
                <a:latin typeface="Arial"/>
              </a:rPr>
              <a:t>Slide </a:t>
            </a:r>
            <a:fld id="{4F44E24F-A969-4C6F-9429-1B2CEA3B5DC9}" type="slidenum">
              <a:rPr b="0" lang="en-US" sz="1100" spc="-1" strike="noStrike">
                <a:solidFill>
                  <a:srgbClr val="fd8b84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Wingdings" charset="2"/>
              <a:buChar char="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3" marL="10350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4" marL="1143000" indent="-1080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5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6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Num" idx="21"/>
          </p:nvPr>
        </p:nvSpPr>
        <p:spPr>
          <a:xfrm>
            <a:off x="6810120" y="6549840"/>
            <a:ext cx="2158920" cy="1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4BF8F46-3426-4D6C-BD0C-5E5F042987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22"/>
          </p:nvPr>
        </p:nvSpPr>
        <p:spPr>
          <a:xfrm>
            <a:off x="168120" y="6367320"/>
            <a:ext cx="5399280" cy="1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598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66a6"/>
                </a:solidFill>
                <a:latin typeface="Arial"/>
              </a:rPr>
              <a:t>Slide </a:t>
            </a:r>
            <a:fld id="{2F6507FE-8073-423A-972B-5B123FE771CF}" type="slidenum">
              <a:rPr b="0" lang="en-US" sz="11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599" name="Text Box 2"/>
          <p:cNvSpPr/>
          <p:nvPr/>
        </p:nvSpPr>
        <p:spPr>
          <a:xfrm>
            <a:off x="5813280" y="6338880"/>
            <a:ext cx="31878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b">
            <a:no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4972"/>
                </a:solidFill>
                <a:latin typeface="PwC_Logo"/>
              </a:rPr>
              <a:t>PwC</a:t>
            </a:r>
            <a:endParaRPr b="0" lang="en-US" sz="30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6956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69560" y="1770120"/>
            <a:ext cx="882468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179280" indent="-17928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2" marL="39528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611280" indent="-17964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4" marL="89856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5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6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640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66a6"/>
                </a:solidFill>
                <a:latin typeface="Arial"/>
              </a:rPr>
              <a:t>Slide </a:t>
            </a:r>
            <a:fld id="{519E41B8-CE5C-4799-91F6-77851223E279}" type="slidenum">
              <a:rPr b="0" lang="en-US" sz="11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6956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169560" y="1770120"/>
            <a:ext cx="882468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179280" indent="-17928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2" marL="39528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611280" indent="-17964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4" marL="89856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5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6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23"/>
          </p:nvPr>
        </p:nvSpPr>
        <p:spPr>
          <a:xfrm>
            <a:off x="6803640" y="636588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sldNum" idx="24"/>
          </p:nvPr>
        </p:nvSpPr>
        <p:spPr>
          <a:xfrm>
            <a:off x="6803640" y="6525720"/>
            <a:ext cx="2133720" cy="1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2F7268D-B3F7-4E83-90AD-48C0570B2B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ftr" idx="25"/>
          </p:nvPr>
        </p:nvSpPr>
        <p:spPr>
          <a:xfrm>
            <a:off x="185400" y="6365520"/>
            <a:ext cx="624348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684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66a6"/>
                </a:solidFill>
                <a:latin typeface="Arial"/>
              </a:rPr>
              <a:t>Slide </a:t>
            </a:r>
            <a:fld id="{8245BFF3-2F10-4BF4-8F55-68F0DFA4515B}" type="slidenum">
              <a:rPr b="0" lang="en-US" sz="11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6956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169560" y="1770120"/>
            <a:ext cx="882468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179280" indent="-17928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2" marL="39528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611280" indent="-17964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4" marL="89856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5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6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26"/>
          </p:nvPr>
        </p:nvSpPr>
        <p:spPr>
          <a:xfrm>
            <a:off x="6803640" y="636588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sldNum" idx="27"/>
          </p:nvPr>
        </p:nvSpPr>
        <p:spPr>
          <a:xfrm>
            <a:off x="6803640" y="6525720"/>
            <a:ext cx="2133720" cy="1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6885D4C-075D-4724-A154-AEC1A923F7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ftr" idx="28"/>
          </p:nvPr>
        </p:nvSpPr>
        <p:spPr>
          <a:xfrm>
            <a:off x="185400" y="6365520"/>
            <a:ext cx="624348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728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66a6"/>
                </a:solidFill>
                <a:latin typeface="Arial"/>
              </a:rPr>
              <a:t>Slide </a:t>
            </a:r>
            <a:fld id="{E92EDD85-71ED-4A59-B1E4-87AEEFF7425D}" type="slidenum">
              <a:rPr b="0" lang="en-US" sz="11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6956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169560" y="1770120"/>
            <a:ext cx="882468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179280" indent="-17928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2" marL="39528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611280" indent="-17964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4" marL="89856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5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6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dt" idx="29"/>
          </p:nvPr>
        </p:nvSpPr>
        <p:spPr>
          <a:xfrm>
            <a:off x="6803640" y="636588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sldNum" idx="30"/>
          </p:nvPr>
        </p:nvSpPr>
        <p:spPr>
          <a:xfrm>
            <a:off x="6803640" y="6525720"/>
            <a:ext cx="2133720" cy="1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12D8B94-6C82-4D86-B286-6FA8DA7A57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ftr" idx="31"/>
          </p:nvPr>
        </p:nvSpPr>
        <p:spPr>
          <a:xfrm>
            <a:off x="185400" y="6365520"/>
            <a:ext cx="624348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772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66a6"/>
                </a:solidFill>
                <a:latin typeface="Arial"/>
              </a:rPr>
              <a:t>Slide </a:t>
            </a:r>
            <a:fld id="{E457EC68-1422-4EB4-98C1-F81A974A9D92}" type="slidenum">
              <a:rPr b="0" lang="en-US" sz="11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6956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169560" y="1770120"/>
            <a:ext cx="882468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179280" indent="-17928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2" marL="39528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611280" indent="-17964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4" marL="89856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5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6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dt" idx="32"/>
          </p:nvPr>
        </p:nvSpPr>
        <p:spPr>
          <a:xfrm>
            <a:off x="6803640" y="636588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sldNum" idx="33"/>
          </p:nvPr>
        </p:nvSpPr>
        <p:spPr>
          <a:xfrm>
            <a:off x="6803640" y="6525720"/>
            <a:ext cx="2133720" cy="1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99CD5FA-F8D2-4EDA-8196-D6B72287E5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ftr" idx="34"/>
          </p:nvPr>
        </p:nvSpPr>
        <p:spPr>
          <a:xfrm>
            <a:off x="185400" y="6365520"/>
            <a:ext cx="624348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56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9560" y="1770120"/>
            <a:ext cx="882468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179280" indent="-17928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2" marL="39528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611280" indent="-17964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4" marL="89856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5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6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  <p:pic>
        <p:nvPicPr>
          <p:cNvPr id="43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45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66a6"/>
                </a:solidFill>
                <a:latin typeface="Arial"/>
              </a:rPr>
              <a:t>Slide </a:t>
            </a:r>
            <a:fld id="{EDEDC7B8-8577-41C6-ABDC-E7EF9F09C396}" type="slidenum">
              <a:rPr b="0" lang="en-US" sz="11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816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66a6"/>
                </a:solidFill>
                <a:latin typeface="Arial"/>
              </a:rPr>
              <a:t>Slide </a:t>
            </a:r>
            <a:fld id="{126D776B-0AEA-4142-BC38-1A2F23E9BF33}" type="slidenum">
              <a:rPr b="0" lang="en-US" sz="11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6956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169560" y="1770120"/>
            <a:ext cx="882468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179280" indent="-17928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2" marL="39528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611280" indent="-17964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4" marL="89856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5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6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dt" idx="35"/>
          </p:nvPr>
        </p:nvSpPr>
        <p:spPr>
          <a:xfrm>
            <a:off x="6803640" y="636588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36"/>
          </p:nvPr>
        </p:nvSpPr>
        <p:spPr>
          <a:xfrm>
            <a:off x="6803640" y="6525720"/>
            <a:ext cx="2133720" cy="1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B9E71A2-26EE-48A0-82E0-4E0B613844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ftr" idx="37"/>
          </p:nvPr>
        </p:nvSpPr>
        <p:spPr>
          <a:xfrm>
            <a:off x="185400" y="6365520"/>
            <a:ext cx="624348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860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66a6"/>
                </a:solidFill>
                <a:latin typeface="Arial"/>
              </a:rPr>
              <a:t>Slide </a:t>
            </a:r>
            <a:fld id="{015E7095-40D5-4491-B88B-293F130AC8E1}" type="slidenum">
              <a:rPr b="0" lang="en-US" sz="11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6956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169560" y="1770120"/>
            <a:ext cx="882468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179280" indent="-17928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2" marL="39528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611280" indent="-17964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4" marL="89856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5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6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38"/>
          </p:nvPr>
        </p:nvSpPr>
        <p:spPr>
          <a:xfrm>
            <a:off x="6803640" y="636588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sldNum" idx="39"/>
          </p:nvPr>
        </p:nvSpPr>
        <p:spPr>
          <a:xfrm>
            <a:off x="6803640" y="6525720"/>
            <a:ext cx="2133720" cy="1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DA9D648-CABE-4982-9318-CABF7A79B6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ftr" idx="40"/>
          </p:nvPr>
        </p:nvSpPr>
        <p:spPr>
          <a:xfrm>
            <a:off x="185400" y="6365520"/>
            <a:ext cx="624348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904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66a6"/>
                </a:solidFill>
                <a:latin typeface="Arial"/>
              </a:rPr>
              <a:t>Slide </a:t>
            </a:r>
            <a:fld id="{F25D1CCD-43CA-46CB-9E17-08284DD9460E}" type="slidenum">
              <a:rPr b="0" lang="en-US" sz="11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6956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169560" y="1770120"/>
            <a:ext cx="882468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179280" indent="-17928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2" marL="39528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611280" indent="-17964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4" marL="89856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5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6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dt" idx="41"/>
          </p:nvPr>
        </p:nvSpPr>
        <p:spPr>
          <a:xfrm>
            <a:off x="6803640" y="636588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sldNum" idx="42"/>
          </p:nvPr>
        </p:nvSpPr>
        <p:spPr>
          <a:xfrm>
            <a:off x="6803640" y="6525720"/>
            <a:ext cx="2133720" cy="1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04F98CB-460B-47AE-AD7C-E2F79166CB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ftr" idx="43"/>
          </p:nvPr>
        </p:nvSpPr>
        <p:spPr>
          <a:xfrm>
            <a:off x="185400" y="6365520"/>
            <a:ext cx="624348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948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66a6"/>
                </a:solidFill>
                <a:latin typeface="Arial"/>
              </a:rPr>
              <a:t>Slide </a:t>
            </a:r>
            <a:fld id="{07C0F11C-6A9D-4DD1-A51B-83864057D94D}" type="slidenum">
              <a:rPr b="0" lang="en-US" sz="11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6956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169560" y="1770120"/>
            <a:ext cx="882468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179280" indent="-17928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2" marL="39528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611280" indent="-17964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4" marL="89856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5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6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4"/>
          </p:nvPr>
        </p:nvSpPr>
        <p:spPr>
          <a:xfrm>
            <a:off x="6803640" y="636588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5"/>
          </p:nvPr>
        </p:nvSpPr>
        <p:spPr>
          <a:xfrm>
            <a:off x="6803640" y="6525720"/>
            <a:ext cx="2133720" cy="1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96AC47F-468D-437E-B972-F476BC0E5A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 type="ftr" idx="46"/>
          </p:nvPr>
        </p:nvSpPr>
        <p:spPr>
          <a:xfrm>
            <a:off x="185400" y="6365520"/>
            <a:ext cx="624348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992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66a6"/>
                </a:solidFill>
                <a:latin typeface="Arial"/>
              </a:rPr>
              <a:t>Slide </a:t>
            </a:r>
            <a:fld id="{6ED08253-DDA4-4046-BE56-492050F35C12}" type="slidenum">
              <a:rPr b="0" lang="en-US" sz="11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93" name="Text Box 2"/>
          <p:cNvSpPr/>
          <p:nvPr/>
        </p:nvSpPr>
        <p:spPr>
          <a:xfrm>
            <a:off x="5813280" y="6338880"/>
            <a:ext cx="31878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b">
            <a:no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4972"/>
                </a:solidFill>
                <a:latin typeface="PwC_Logo"/>
              </a:rPr>
              <a:t>PwC</a:t>
            </a:r>
            <a:endParaRPr b="0" lang="en-US" sz="30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6956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169560" y="1770120"/>
            <a:ext cx="882468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179280" indent="-17928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2" marL="39528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611280" indent="-17964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4" marL="89856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5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6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6956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169560" y="1770120"/>
            <a:ext cx="882468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179280" indent="-17928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2" marL="39528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611280" indent="-179640">
              <a:buClr>
                <a:srgbClr val="2666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4" marL="898560" indent="-216000">
              <a:buClr>
                <a:srgbClr val="2666a6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5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6" marL="898560" indent="-216000"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84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d8b84"/>
                </a:solidFill>
                <a:latin typeface="Arial"/>
              </a:rPr>
              <a:t>Slide </a:t>
            </a:r>
            <a:fld id="{FECB324D-3F83-4793-B614-BC31FACF1FAE}" type="slidenum">
              <a:rPr b="0" lang="en-US" sz="1100" spc="-1" strike="noStrike">
                <a:solidFill>
                  <a:srgbClr val="fd8b84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Wingdings" charset="2"/>
              <a:buChar char="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3" marL="10350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4" marL="1143000" indent="-1080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5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6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125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d8b84"/>
                </a:solidFill>
                <a:latin typeface="Arial"/>
              </a:rPr>
              <a:t>Slide </a:t>
            </a:r>
            <a:fld id="{7E850C2F-E5FA-412E-A442-A345EF37DCFC}" type="slidenum">
              <a:rPr b="0" lang="en-US" sz="1100" spc="-1" strike="noStrike">
                <a:solidFill>
                  <a:srgbClr val="fd8b84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Wingdings" charset="2"/>
              <a:buChar char="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3" marL="10350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4" marL="1143000" indent="-1080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5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6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"/>
          </p:nvPr>
        </p:nvSpPr>
        <p:spPr>
          <a:xfrm>
            <a:off x="6810120" y="6549840"/>
            <a:ext cx="2158920" cy="1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A3B7914-3FB8-4CB2-A6CD-D10F080E57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2"/>
          </p:nvPr>
        </p:nvSpPr>
        <p:spPr>
          <a:xfrm>
            <a:off x="168120" y="6367320"/>
            <a:ext cx="5399280" cy="1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168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d8b84"/>
                </a:solidFill>
                <a:latin typeface="Arial"/>
              </a:rPr>
              <a:t>Slide </a:t>
            </a:r>
            <a:fld id="{EAC1A731-AC69-4BC3-A3A1-74179B36A596}" type="slidenum">
              <a:rPr b="0" lang="en-US" sz="1100" spc="-1" strike="noStrike">
                <a:solidFill>
                  <a:srgbClr val="fd8b84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Wingdings" charset="2"/>
              <a:buChar char="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3" marL="10350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4" marL="1143000" indent="-1080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5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6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3"/>
          </p:nvPr>
        </p:nvSpPr>
        <p:spPr>
          <a:xfrm>
            <a:off x="6810120" y="6549840"/>
            <a:ext cx="2158920" cy="1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11AB4B7-FD7A-4C41-A6EA-2B130A8C22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4"/>
          </p:nvPr>
        </p:nvSpPr>
        <p:spPr>
          <a:xfrm>
            <a:off x="168120" y="6367320"/>
            <a:ext cx="5399280" cy="1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211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d8b84"/>
                </a:solidFill>
                <a:latin typeface="Arial"/>
              </a:rPr>
              <a:t>Slide </a:t>
            </a:r>
            <a:fld id="{D713A4EB-C549-41C8-BC9A-690D8468F7D2}" type="slidenum">
              <a:rPr b="0" lang="en-US" sz="1100" spc="-1" strike="noStrike">
                <a:solidFill>
                  <a:srgbClr val="fd8b84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Wingdings" charset="2"/>
              <a:buChar char="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3" marL="10350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4" marL="1143000" indent="-1080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5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6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5"/>
          </p:nvPr>
        </p:nvSpPr>
        <p:spPr>
          <a:xfrm>
            <a:off x="6810120" y="6549840"/>
            <a:ext cx="2158920" cy="1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33809B3-28D4-4427-B62F-E40933100F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6"/>
          </p:nvPr>
        </p:nvSpPr>
        <p:spPr>
          <a:xfrm>
            <a:off x="168120" y="6367320"/>
            <a:ext cx="5399280" cy="1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254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d8b84"/>
                </a:solidFill>
                <a:latin typeface="Arial"/>
              </a:rPr>
              <a:t>Slide </a:t>
            </a:r>
            <a:fld id="{3C400A06-7341-4E49-9DE6-47C029D8820E}" type="slidenum">
              <a:rPr b="0" lang="en-US" sz="1100" spc="-1" strike="noStrike">
                <a:solidFill>
                  <a:srgbClr val="fd8b84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Wingdings" charset="2"/>
              <a:buChar char="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3" marL="10350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4" marL="1143000" indent="-1080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5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6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7"/>
          </p:nvPr>
        </p:nvSpPr>
        <p:spPr>
          <a:xfrm>
            <a:off x="6810120" y="6549840"/>
            <a:ext cx="2158920" cy="1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FA50863-2C61-4E62-9A8B-3DF64593F9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8"/>
          </p:nvPr>
        </p:nvSpPr>
        <p:spPr>
          <a:xfrm>
            <a:off x="168120" y="6367320"/>
            <a:ext cx="5399280" cy="1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297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d8b84"/>
                </a:solidFill>
                <a:latin typeface="Arial"/>
              </a:rPr>
              <a:t>Slide </a:t>
            </a:r>
            <a:fld id="{765142DB-0B83-47DF-A496-80731A715C28}" type="slidenum">
              <a:rPr b="0" lang="en-US" sz="1100" spc="-1" strike="noStrike">
                <a:solidFill>
                  <a:srgbClr val="fd8b84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Wingdings" charset="2"/>
              <a:buChar char="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3" marL="10350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4" marL="1143000" indent="-1080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5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6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Num" idx="9"/>
          </p:nvPr>
        </p:nvSpPr>
        <p:spPr>
          <a:xfrm>
            <a:off x="6810120" y="6549840"/>
            <a:ext cx="2158920" cy="1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2F81DBC-2AC3-4DAA-A773-268225C4CF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0"/>
          </p:nvPr>
        </p:nvSpPr>
        <p:spPr>
          <a:xfrm>
            <a:off x="168120" y="6367320"/>
            <a:ext cx="5399280" cy="1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C:\Documents and Settings\chaitcha605\Desktop\Logos for PwC\Transparent Step Logo.png"/>
          <p:cNvPicPr/>
          <p:nvPr/>
        </p:nvPicPr>
        <p:blipFill>
          <a:blip r:embed="rId2"/>
          <a:stretch/>
        </p:blipFill>
        <p:spPr>
          <a:xfrm>
            <a:off x="7315200" y="6165720"/>
            <a:ext cx="1738440" cy="6415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:\Documents and Settings\chaitcha605\Desktop\Logos for PwC\Transparent NeGP PNG.png"/>
          <p:cNvPicPr/>
          <p:nvPr/>
        </p:nvPicPr>
        <p:blipFill>
          <a:blip r:embed="rId3"/>
          <a:stretch/>
        </p:blipFill>
        <p:spPr>
          <a:xfrm>
            <a:off x="14400" y="6286680"/>
            <a:ext cx="1662120" cy="533160"/>
          </a:xfrm>
          <a:prstGeom prst="rect">
            <a:avLst/>
          </a:prstGeom>
          <a:ln w="0">
            <a:noFill/>
          </a:ln>
        </p:spPr>
      </p:pic>
      <p:sp>
        <p:nvSpPr>
          <p:cNvPr id="340" name="Foliennummernplatzhalter 5"/>
          <p:cNvSpPr/>
          <p:nvPr/>
        </p:nvSpPr>
        <p:spPr>
          <a:xfrm>
            <a:off x="3390840" y="6477120"/>
            <a:ext cx="21337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d8b84"/>
                </a:solidFill>
                <a:latin typeface="Arial"/>
              </a:rPr>
              <a:t>Slide </a:t>
            </a:r>
            <a:fld id="{C487D56C-A9C1-418B-BCC3-38F7B554BF9E}" type="slidenum">
              <a:rPr b="0" lang="en-US" sz="1100" spc="-1" strike="noStrike">
                <a:solidFill>
                  <a:srgbClr val="fd8b84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0a1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Wingdings" charset="2"/>
              <a:buChar char="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3" marL="1035000" indent="-2286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4" marL="1143000" indent="-108000">
              <a:spcBef>
                <a:spcPts val="499"/>
              </a:spcBef>
              <a:spcAft>
                <a:spcPts val="499"/>
              </a:spcAft>
              <a:buClr>
                <a:srgbClr val="bf0509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5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6" marL="1143000" indent="-108000">
              <a:spcBef>
                <a:spcPts val="499"/>
              </a:spcBef>
              <a:spcAft>
                <a:spcPts val="499"/>
              </a:spcAft>
              <a:buClr>
                <a:srgbClr val="7b0a14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bf050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11"/>
          </p:nvPr>
        </p:nvSpPr>
        <p:spPr>
          <a:xfrm>
            <a:off x="6810120" y="6549840"/>
            <a:ext cx="2158920" cy="1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AE3831C-6FED-4361-A77B-836E85FAF8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2"/>
          </p:nvPr>
        </p:nvSpPr>
        <p:spPr>
          <a:xfrm>
            <a:off x="168120" y="6367320"/>
            <a:ext cx="5399280" cy="1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Text Box 72"/>
          <p:cNvSpPr/>
          <p:nvPr/>
        </p:nvSpPr>
        <p:spPr>
          <a:xfrm>
            <a:off x="84240" y="650880"/>
            <a:ext cx="905976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  <a:ea typeface="Arial"/>
              </a:rPr>
              <a:t>Course: </a:t>
            </a:r>
            <a:endParaRPr b="0" lang="en-US" sz="3600" spc="-1" strike="noStrike">
              <a:solidFill>
                <a:srgbClr val="7b0a14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c1c1c"/>
                </a:solidFill>
                <a:latin typeface="Arial"/>
                <a:ea typeface="Arial"/>
              </a:rPr>
              <a:t>Government Process Re-engineering</a:t>
            </a:r>
            <a:endParaRPr b="0" lang="en-US" sz="3600" spc="-1" strike="noStrike">
              <a:solidFill>
                <a:srgbClr val="7b0a14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0a1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Day 2</a:t>
            </a:r>
            <a:endParaRPr b="0" lang="en-US" sz="36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78" name="Text Box 72"/>
          <p:cNvSpPr/>
          <p:nvPr/>
        </p:nvSpPr>
        <p:spPr>
          <a:xfrm>
            <a:off x="84240" y="5008680"/>
            <a:ext cx="9059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Session 3: 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ollecting Data for Process Mapping</a:t>
            </a:r>
            <a:endParaRPr b="0" lang="en-US" sz="32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asses of data collected in e-Governance projects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321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Arial"/>
              </a:rPr>
              <a:t>Time 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–</a:t>
            </a:r>
            <a:r>
              <a:rPr b="0" lang="en-GB" sz="2000" spc="-1" strike="noStrike">
                <a:solidFill>
                  <a:srgbClr val="1c1c1c"/>
                </a:solidFill>
                <a:latin typeface="Arial"/>
              </a:rPr>
              <a:t> value added, cycle, waiting, productive / non-productive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Arial"/>
              </a:rPr>
              <a:t>Volumes 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–</a:t>
            </a:r>
            <a:r>
              <a:rPr b="0" lang="en-GB" sz="2000" spc="-1" strike="noStrike">
                <a:solidFill>
                  <a:srgbClr val="1c1c1c"/>
                </a:solidFill>
                <a:latin typeface="Arial"/>
              </a:rPr>
              <a:t> transactions / day, units / hour, % of each category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Arial"/>
              </a:rPr>
              <a:t>Rates or Costs - computed, fixed, per uni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Arial"/>
              </a:rPr>
              <a:t>Equipment Used - cos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Arial"/>
              </a:rPr>
              <a:t>Value Added - real value, business value, no-value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49200" indent="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assifying the type of data being collected (1/2)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47" name="Rectangle 3"/>
          <p:cNvSpPr/>
          <p:nvPr/>
        </p:nvSpPr>
        <p:spPr>
          <a:xfrm>
            <a:off x="2819520" y="2143080"/>
            <a:ext cx="589428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Anything that can be measured on a infinitely divisible continuum or scale and can take up any real number value (at least in principle)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i="1" lang="en-US" sz="1600" spc="-1" strike="noStrike">
                <a:solidFill>
                  <a:srgbClr val="1c1c1c"/>
                </a:solidFill>
                <a:latin typeface="Arial"/>
              </a:rPr>
              <a:t>Example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emperature, Cycle time of process, Cost, TPH etc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48" name="Rectangle 5"/>
          <p:cNvSpPr/>
          <p:nvPr/>
        </p:nvSpPr>
        <p:spPr>
          <a:xfrm>
            <a:off x="614520" y="2703600"/>
            <a:ext cx="1766880" cy="6667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b0dcb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7b0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0a14"/>
                </a:solidFill>
                <a:latin typeface="Arial"/>
              </a:rPr>
              <a:t>Continuous</a:t>
            </a: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49" name="Left Brace 8"/>
          <p:cNvSpPr/>
          <p:nvPr/>
        </p:nvSpPr>
        <p:spPr>
          <a:xfrm>
            <a:off x="2381400" y="1785960"/>
            <a:ext cx="438120" cy="2571840"/>
          </a:xfrm>
          <a:custGeom>
            <a:avLst/>
            <a:gdLst>
              <a:gd name="textAreaLeft" fmla="*/ 280080 w 438120"/>
              <a:gd name="textAreaRight" fmla="*/ 438480 w 438120"/>
              <a:gd name="textAreaTop" fmla="*/ 11160 h 2571840"/>
              <a:gd name="textAreaBottom" fmla="*/ 256068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4"/>
                  <a:pt x="10800" y="307"/>
                </a:cubicBezTo>
                <a:lnTo>
                  <a:pt x="10800" y="10493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4"/>
                  <a:pt x="10800" y="11107"/>
                </a:cubicBezTo>
                <a:lnTo>
                  <a:pt x="10800" y="21293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7b0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assifying the type of data being collected (2/2) 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51" name="Rectangle 4"/>
          <p:cNvSpPr/>
          <p:nvPr/>
        </p:nvSpPr>
        <p:spPr>
          <a:xfrm>
            <a:off x="636480" y="2727360"/>
            <a:ext cx="1765440" cy="1117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b0dcb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7b0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0a14"/>
                </a:solidFill>
                <a:latin typeface="Arial"/>
              </a:rPr>
              <a:t>Attribute or Discrete</a:t>
            </a: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52" name="Rectangle 6"/>
          <p:cNvSpPr/>
          <p:nvPr/>
        </p:nvSpPr>
        <p:spPr>
          <a:xfrm>
            <a:off x="2895480" y="1652760"/>
            <a:ext cx="5894640" cy="38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buClr>
                <a:srgbClr val="1c1c1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Anything that can be sorted into distinct, separate, non-overlapping categories or designated as either/or, or takes up certain values 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buClr>
                <a:srgbClr val="1c1c1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Discrete data can be attribute data (% occurrences), count data(no of defects per 50 invoices) or ordered categories (excellent, good, fair, poor) 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c1c1c"/>
                </a:solidFill>
                <a:latin typeface="Arial"/>
              </a:rPr>
              <a:t>Examples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Day of the week (M/T/W/Th/F/Sa/Su)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Defect/No Defect, Off/On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Number of stoppages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Absenteeism (Absent / Present) 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53" name="Left Brace 9"/>
          <p:cNvSpPr/>
          <p:nvPr/>
        </p:nvSpPr>
        <p:spPr>
          <a:xfrm>
            <a:off x="2381400" y="1652760"/>
            <a:ext cx="438120" cy="3587400"/>
          </a:xfrm>
          <a:custGeom>
            <a:avLst/>
            <a:gdLst>
              <a:gd name="textAreaLeft" fmla="*/ 280080 w 438120"/>
              <a:gd name="textAreaRight" fmla="*/ 438480 w 438120"/>
              <a:gd name="textAreaTop" fmla="*/ 11160 h 3587400"/>
              <a:gd name="textAreaBottom" fmla="*/ 3576240 h 358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0"/>
                  <a:pt x="10800" y="220"/>
                </a:cubicBezTo>
                <a:lnTo>
                  <a:pt x="10800" y="10580"/>
                </a:lnTo>
                <a:cubicBezTo>
                  <a:pt x="10800" y="10690"/>
                  <a:pt x="5400" y="10800"/>
                  <a:pt x="0" y="10800"/>
                </a:cubicBezTo>
                <a:cubicBezTo>
                  <a:pt x="5400" y="10800"/>
                  <a:pt x="10800" y="10910"/>
                  <a:pt x="10800" y="11020"/>
                </a:cubicBezTo>
                <a:lnTo>
                  <a:pt x="10800" y="21380"/>
                </a:lnTo>
                <a:cubicBezTo>
                  <a:pt x="10800" y="214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7b0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ata collection methodology (1 of 2)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159840" y="1752480"/>
            <a:ext cx="8821800" cy="27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15280" indent="-2152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tep 1: Design the data collection plan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660600" indent="-21708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What data needs to be collected – </a:t>
            </a:r>
            <a:r>
              <a:rPr b="0" i="1" lang="en-US" sz="2000" spc="-1" strike="noStrike">
                <a:solidFill>
                  <a:srgbClr val="1c1c1c"/>
                </a:solidFill>
                <a:latin typeface="Arial"/>
              </a:rPr>
              <a:t>Design appropriate template (include desired data formats)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660600" indent="-21708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What is the period/ sample size for data – </a:t>
            </a:r>
            <a:r>
              <a:rPr b="0" i="1" lang="en-US" sz="2000" spc="-1" strike="noStrike">
                <a:solidFill>
                  <a:srgbClr val="1c1c1c"/>
                </a:solidFill>
                <a:latin typeface="Arial"/>
              </a:rPr>
              <a:t>clearly specify what will qualify as a valid sample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660600" indent="-21708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Who will collect the data – </a:t>
            </a:r>
            <a:r>
              <a:rPr b="0" i="1" lang="en-US" sz="2000" spc="-1" strike="noStrike">
                <a:solidFill>
                  <a:srgbClr val="1c1c1c"/>
                </a:solidFill>
                <a:latin typeface="Arial"/>
              </a:rPr>
              <a:t>assign clear responsibilities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660600" indent="-21708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What are the valid data sources – </a:t>
            </a:r>
            <a:r>
              <a:rPr b="0" i="1" lang="en-US" sz="2000" spc="-1" strike="noStrike">
                <a:solidFill>
                  <a:srgbClr val="1c1c1c"/>
                </a:solidFill>
                <a:latin typeface="Arial"/>
              </a:rPr>
              <a:t>seek agreement from stakeholders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ata collection methodology (2 of 2)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tep 2: Deploy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681120" indent="-22392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Clearly articulate the expectations and requirements to the data collector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681120" indent="-22392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Give sample data formats, if required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681120" indent="-22392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Review the first few data points collected to ensure data collection is as per the requirements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222120" indent="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222120" indent="-22212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tep 3: Review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681120" indent="-22392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Check the data for integrity, accuracy and sufficiency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ampling – Means for data collection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159840" y="133164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8400" indent="-338400">
              <a:lnSpc>
                <a:spcPct val="114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60160" indent="-221400">
              <a:lnSpc>
                <a:spcPct val="114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ampling is a process of collecting only a portion of the data that is available or could be available and using the data in sample to draw conclusions (statistical inference)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38400" indent="-338400">
              <a:lnSpc>
                <a:spcPct val="114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38400" indent="-338400">
              <a:lnSpc>
                <a:spcPct val="114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Why Sampling?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60160" indent="-221400">
              <a:lnSpc>
                <a:spcPct val="114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It is often impractical or too costly to collect the data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60160" indent="-221400">
              <a:lnSpc>
                <a:spcPct val="114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ound conclusion can often be made from a relatively small amount of data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60160" indent="-221400">
              <a:lnSpc>
                <a:spcPct val="114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ome time data collection is a destructive process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60160" indent="-221400">
              <a:lnSpc>
                <a:spcPct val="114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ampling provides a ”snapshot” of the process or population at a given point of time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38400" indent="-338400">
              <a:lnSpc>
                <a:spcPct val="114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ampling in real life … a visit to a Mithai shop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34308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When we go to a mithai shop, most of us taste a little bite of the mithai. Why do we sample the mithai?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34308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We assume that the entire mithai is made from one base and so if we sample a bit, we can be reasonably sure about the taste of the entire half a kg or one kg of mithai that we want to buy.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34308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We take a small sample because the mithai wala won’t allow us to taste the entire mithai before hand.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34308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We do similar samplings day on day in our lives 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c1c1c"/>
                </a:solidFill>
                <a:latin typeface="Arial"/>
              </a:rPr>
              <a:t>Introduction to Process Mapping Tools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159840" y="1752120"/>
            <a:ext cx="8821800" cy="34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24720" indent="-32472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At the simplest level, Pen &amp; Paper is all that is required to do flowcharting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37120" indent="-21240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Initially, stencils were available for drawing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37120" indent="-21240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A stencil can be used if available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37120" indent="-21240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Alternately, we can also draw freehand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37120" indent="-21240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24720" indent="-32472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A fairly common practice in process mapping is to draw individual items on post-It notes and attach them to a char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37120" indent="-21240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his enables the items to be moved around without having to do a lot of rework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37120" indent="-21240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rocess Mapping using Tools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159840" y="1363320"/>
            <a:ext cx="8821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Practically any software with graphical capabilities can be used to generate flowcharts. For example, in MS Office, we can generate flowcharts in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Microsoft Word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Microsoft Excel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Microsoft PowerPoint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Microsoft Vision is a dedicated graphing software that can also be used to advanced graphing and additional reporting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Other similar (free) applications on the Windows platform include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lvl="1" marL="577800" indent="-228600">
              <a:lnSpc>
                <a:spcPct val="120000"/>
              </a:lnSpc>
              <a:spcAft>
                <a:spcPts val="499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Dia 0.96: Dia is designed to be much like the Windows program 'Visio'.</a:t>
            </a: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59840" y="382320"/>
            <a:ext cx="898380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Business Process Management (BPM) tools for process mapping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60200" y="1363320"/>
            <a:ext cx="444024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BPM tools help organizations to have a holistic view of processes and to intelligently guide, automate, and optimize business processes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223920" indent="-22392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A BPM solution enables decoupling of processes, rules, data, and applications while minimally impacting legacy systems 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223920" indent="-22392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Automation and streamlining the processes; from processing an online order to approving a mortgage application.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223920" indent="-22392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he process execution engine needed to manage user workflows, data integration, and track or report process data.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223920" indent="-22392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Key vendors of BPM tools include Savvion, Lombardi &amp; Ultimus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22392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168" name="AutoShape 5"/>
          <p:cNvSpPr/>
          <p:nvPr/>
        </p:nvSpPr>
        <p:spPr>
          <a:xfrm>
            <a:off x="6168960" y="5146560"/>
            <a:ext cx="588960" cy="573120"/>
          </a:xfrm>
          <a:prstGeom prst="flowChartMagneticDisk">
            <a:avLst/>
          </a:prstGeom>
          <a:solidFill>
            <a:srgbClr val="fed8d6"/>
          </a:solidFill>
          <a:ln w="9360">
            <a:solidFill>
              <a:srgbClr val="7b0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a14"/>
                </a:solidFill>
                <a:latin typeface="Arial"/>
              </a:rPr>
              <a:t>Policy Admin</a:t>
            </a:r>
            <a:endParaRPr b="0" lang="en-US" sz="10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69" name="AutoShape 6"/>
          <p:cNvSpPr/>
          <p:nvPr/>
        </p:nvSpPr>
        <p:spPr>
          <a:xfrm>
            <a:off x="6969240" y="5146560"/>
            <a:ext cx="588960" cy="573120"/>
          </a:xfrm>
          <a:prstGeom prst="flowChartMagneticDisk">
            <a:avLst/>
          </a:prstGeom>
          <a:solidFill>
            <a:srgbClr val="fed8d6"/>
          </a:solidFill>
          <a:ln w="9360">
            <a:solidFill>
              <a:srgbClr val="7b0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a14"/>
                </a:solidFill>
                <a:latin typeface="Arial"/>
              </a:rPr>
              <a:t>Billing</a:t>
            </a:r>
            <a:endParaRPr b="0" lang="en-US" sz="10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70" name="AutoShape 7"/>
          <p:cNvSpPr/>
          <p:nvPr/>
        </p:nvSpPr>
        <p:spPr>
          <a:xfrm>
            <a:off x="7812000" y="5146560"/>
            <a:ext cx="588960" cy="573120"/>
          </a:xfrm>
          <a:prstGeom prst="flowChartMagneticDisk">
            <a:avLst/>
          </a:prstGeom>
          <a:solidFill>
            <a:srgbClr val="fed8d6"/>
          </a:solidFill>
          <a:ln w="9360">
            <a:solidFill>
              <a:srgbClr val="7b0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a14"/>
                </a:solidFill>
                <a:latin typeface="Arial"/>
              </a:rPr>
              <a:t>Claims</a:t>
            </a:r>
            <a:endParaRPr b="0" lang="en-US" sz="10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71" name="AutoShape 8"/>
          <p:cNvSpPr/>
          <p:nvPr/>
        </p:nvSpPr>
        <p:spPr>
          <a:xfrm>
            <a:off x="5748480" y="4143240"/>
            <a:ext cx="3031920" cy="619200"/>
          </a:xfrm>
          <a:prstGeom prst="flowChartAlternateProcess">
            <a:avLst/>
          </a:prstGeom>
          <a:gradFill rotWithShape="0">
            <a:gsLst>
              <a:gs pos="0">
                <a:srgbClr val="fb3d32"/>
              </a:gs>
              <a:gs pos="50000">
                <a:srgbClr val="fd8b84"/>
              </a:gs>
              <a:gs pos="100000">
                <a:srgbClr val="fb3d32"/>
              </a:gs>
            </a:gsLst>
            <a:lin ang="5400000"/>
          </a:gradFill>
          <a:ln w="9360">
            <a:solidFill>
              <a:srgbClr val="7b0a14"/>
            </a:solidFill>
            <a:miter/>
          </a:ln>
          <a:effectLst>
            <a:outerShdw dist="107932" dir="2700000" blurRad="0" rotWithShape="0">
              <a:srgbClr val="bf050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b0a14"/>
                </a:solidFill>
                <a:latin typeface="Arial"/>
              </a:rPr>
              <a:t>BPM Engine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</p:txBody>
      </p:sp>
      <p:grpSp>
        <p:nvGrpSpPr>
          <p:cNvPr id="1172" name="Group 9"/>
          <p:cNvGrpSpPr/>
          <p:nvPr/>
        </p:nvGrpSpPr>
        <p:grpSpPr>
          <a:xfrm>
            <a:off x="5840280" y="3057480"/>
            <a:ext cx="637920" cy="577440"/>
            <a:chOff x="5840280" y="3057480"/>
            <a:chExt cx="637920" cy="577440"/>
          </a:xfrm>
        </p:grpSpPr>
        <p:sp>
          <p:nvSpPr>
            <p:cNvPr id="1173" name="AutoShape 10"/>
            <p:cNvSpPr/>
            <p:nvPr/>
          </p:nvSpPr>
          <p:spPr>
            <a:xfrm>
              <a:off x="5840280" y="3057480"/>
              <a:ext cx="204120" cy="159480"/>
            </a:xfrm>
            <a:prstGeom prst="flowChartProcess">
              <a:avLst/>
            </a:prstGeom>
            <a:solidFill>
              <a:srgbClr val="fed8d6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74" name="AutoShape 11"/>
            <p:cNvSpPr/>
            <p:nvPr/>
          </p:nvSpPr>
          <p:spPr>
            <a:xfrm>
              <a:off x="6044400" y="3216960"/>
              <a:ext cx="194760" cy="181440"/>
            </a:xfrm>
            <a:prstGeom prst="flowChartDecision">
              <a:avLst/>
            </a:prstGeom>
            <a:solidFill>
              <a:srgbClr val="fdb1ad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75" name="AutoShape 12"/>
            <p:cNvSpPr/>
            <p:nvPr/>
          </p:nvSpPr>
          <p:spPr>
            <a:xfrm>
              <a:off x="6274080" y="3475440"/>
              <a:ext cx="204120" cy="159480"/>
            </a:xfrm>
            <a:prstGeom prst="flowChartProcess">
              <a:avLst/>
            </a:prstGeom>
            <a:solidFill>
              <a:srgbClr val="fed8d6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cxnSp>
          <p:nvCxnSpPr>
            <p:cNvPr id="1176" name="AutoShape 13"/>
            <p:cNvCxnSpPr>
              <a:stCxn id="1173" idx="2"/>
              <a:endCxn id="1174" idx="1"/>
            </p:cNvCxnSpPr>
            <p:nvPr/>
          </p:nvCxnSpPr>
          <p:spPr>
            <a:xfrm flipH="1" rot="16200000">
              <a:off x="5948280" y="3211200"/>
              <a:ext cx="91440" cy="102240"/>
            </a:xfrm>
            <a:prstGeom prst="bentConnector2">
              <a:avLst/>
            </a:prstGeom>
            <a:ln w="9360">
              <a:solidFill>
                <a:srgbClr val="7b0a14"/>
              </a:solidFill>
              <a:miter/>
            </a:ln>
          </p:spPr>
        </p:cxnSp>
        <p:cxnSp>
          <p:nvCxnSpPr>
            <p:cNvPr id="1177" name="AutoShape 14"/>
            <p:cNvCxnSpPr>
              <a:stCxn id="1174" idx="2"/>
              <a:endCxn id="1175" idx="1"/>
            </p:cNvCxnSpPr>
            <p:nvPr/>
          </p:nvCxnSpPr>
          <p:spPr>
            <a:xfrm flipH="1" rot="16200000">
              <a:off x="6129720" y="3411000"/>
              <a:ext cx="157680" cy="132480"/>
            </a:xfrm>
            <a:prstGeom prst="bentConnector2">
              <a:avLst/>
            </a:prstGeom>
            <a:ln w="9360">
              <a:solidFill>
                <a:srgbClr val="7b0a14"/>
              </a:solidFill>
              <a:miter/>
            </a:ln>
          </p:spPr>
        </p:cxnSp>
        <p:sp>
          <p:nvSpPr>
            <p:cNvPr id="1178" name="AutoShape 15"/>
            <p:cNvSpPr/>
            <p:nvPr/>
          </p:nvSpPr>
          <p:spPr>
            <a:xfrm>
              <a:off x="6274080" y="3228480"/>
              <a:ext cx="204120" cy="159480"/>
            </a:xfrm>
            <a:prstGeom prst="flowChartProcess">
              <a:avLst/>
            </a:prstGeom>
            <a:solidFill>
              <a:srgbClr val="fed8d6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cxnSp>
          <p:nvCxnSpPr>
            <p:cNvPr id="1179" name="AutoShape 16"/>
            <p:cNvCxnSpPr>
              <a:stCxn id="1178" idx="1"/>
              <a:endCxn id="1174" idx="3"/>
            </p:cNvCxnSpPr>
            <p:nvPr/>
          </p:nvCxnSpPr>
          <p:spPr>
            <a:xfrm rot="10800000">
              <a:off x="6238440" y="3306960"/>
              <a:ext cx="35640" cy="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7b0a14"/>
              </a:solidFill>
              <a:miter/>
            </a:ln>
          </p:spPr>
        </p:cxnSp>
      </p:grpSp>
      <p:sp>
        <p:nvSpPr>
          <p:cNvPr id="1180" name="Text Box 17"/>
          <p:cNvSpPr/>
          <p:nvPr/>
        </p:nvSpPr>
        <p:spPr>
          <a:xfrm>
            <a:off x="5649840" y="3701880"/>
            <a:ext cx="1077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a14"/>
                </a:solidFill>
                <a:latin typeface="Arial"/>
              </a:rPr>
              <a:t>Enrollment</a:t>
            </a:r>
            <a:endParaRPr b="0" lang="en-US" sz="10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81" name="Text Box 18"/>
          <p:cNvSpPr/>
          <p:nvPr/>
        </p:nvSpPr>
        <p:spPr>
          <a:xfrm>
            <a:off x="6727680" y="3701880"/>
            <a:ext cx="107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a14"/>
                </a:solidFill>
                <a:latin typeface="Arial"/>
              </a:rPr>
              <a:t>Underwriting</a:t>
            </a:r>
            <a:endParaRPr b="0" lang="en-US" sz="10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82" name="Text Box 19"/>
          <p:cNvSpPr/>
          <p:nvPr/>
        </p:nvSpPr>
        <p:spPr>
          <a:xfrm>
            <a:off x="7718400" y="3701880"/>
            <a:ext cx="1077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a14"/>
                </a:solidFill>
                <a:latin typeface="Arial"/>
              </a:rPr>
              <a:t>Claims</a:t>
            </a:r>
            <a:endParaRPr b="0" lang="en-US" sz="1000" spc="-1" strike="noStrike">
              <a:solidFill>
                <a:srgbClr val="7b0a14"/>
              </a:solidFill>
              <a:latin typeface="Arial"/>
            </a:endParaRPr>
          </a:p>
        </p:txBody>
      </p:sp>
      <p:pic>
        <p:nvPicPr>
          <p:cNvPr id="1183" name="Picture 20" descr="operator"/>
          <p:cNvPicPr/>
          <p:nvPr/>
        </p:nvPicPr>
        <p:blipFill>
          <a:blip r:embed="rId1"/>
          <a:stretch/>
        </p:blipFill>
        <p:spPr>
          <a:xfrm>
            <a:off x="6051600" y="156852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21" descr="j0402336"/>
          <p:cNvPicPr/>
          <p:nvPr/>
        </p:nvPicPr>
        <p:blipFill>
          <a:blip r:embed="rId2"/>
          <a:stretch/>
        </p:blipFill>
        <p:spPr>
          <a:xfrm>
            <a:off x="6959520" y="1636560"/>
            <a:ext cx="368280" cy="552600"/>
          </a:xfrm>
          <a:prstGeom prst="rect">
            <a:avLst/>
          </a:prstGeom>
          <a:ln w="0">
            <a:noFill/>
          </a:ln>
        </p:spPr>
      </p:pic>
      <p:grpSp>
        <p:nvGrpSpPr>
          <p:cNvPr id="1185" name="Group 22"/>
          <p:cNvGrpSpPr/>
          <p:nvPr/>
        </p:nvGrpSpPr>
        <p:grpSpPr>
          <a:xfrm>
            <a:off x="6818400" y="3057480"/>
            <a:ext cx="637920" cy="577440"/>
            <a:chOff x="6818400" y="3057480"/>
            <a:chExt cx="637920" cy="577440"/>
          </a:xfrm>
        </p:grpSpPr>
        <p:sp>
          <p:nvSpPr>
            <p:cNvPr id="1186" name="AutoShape 23"/>
            <p:cNvSpPr/>
            <p:nvPr/>
          </p:nvSpPr>
          <p:spPr>
            <a:xfrm>
              <a:off x="6818400" y="3057480"/>
              <a:ext cx="204120" cy="159480"/>
            </a:xfrm>
            <a:prstGeom prst="flowChartProcess">
              <a:avLst/>
            </a:prstGeom>
            <a:solidFill>
              <a:srgbClr val="fed8d6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87" name="AutoShape 24"/>
            <p:cNvSpPr/>
            <p:nvPr/>
          </p:nvSpPr>
          <p:spPr>
            <a:xfrm>
              <a:off x="7022520" y="3216960"/>
              <a:ext cx="194400" cy="181440"/>
            </a:xfrm>
            <a:prstGeom prst="flowChartDecision">
              <a:avLst/>
            </a:prstGeom>
            <a:solidFill>
              <a:srgbClr val="fdb1ad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88" name="AutoShape 25"/>
            <p:cNvSpPr/>
            <p:nvPr/>
          </p:nvSpPr>
          <p:spPr>
            <a:xfrm>
              <a:off x="7252200" y="3475440"/>
              <a:ext cx="204120" cy="159480"/>
            </a:xfrm>
            <a:prstGeom prst="flowChartProcess">
              <a:avLst/>
            </a:prstGeom>
            <a:solidFill>
              <a:srgbClr val="fed8d6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cxnSp>
          <p:nvCxnSpPr>
            <p:cNvPr id="1189" name="AutoShape 26"/>
            <p:cNvCxnSpPr>
              <a:stCxn id="1186" idx="2"/>
              <a:endCxn id="1187" idx="1"/>
            </p:cNvCxnSpPr>
            <p:nvPr/>
          </p:nvCxnSpPr>
          <p:spPr>
            <a:xfrm flipH="1" rot="16200000">
              <a:off x="6926400" y="3211200"/>
              <a:ext cx="91440" cy="102240"/>
            </a:xfrm>
            <a:prstGeom prst="bentConnector2">
              <a:avLst/>
            </a:prstGeom>
            <a:ln w="9360">
              <a:solidFill>
                <a:srgbClr val="7b0a14"/>
              </a:solidFill>
              <a:miter/>
            </a:ln>
          </p:spPr>
        </p:cxnSp>
        <p:cxnSp>
          <p:nvCxnSpPr>
            <p:cNvPr id="1190" name="AutoShape 27"/>
            <p:cNvCxnSpPr>
              <a:stCxn id="1187" idx="2"/>
              <a:endCxn id="1188" idx="1"/>
            </p:cNvCxnSpPr>
            <p:nvPr/>
          </p:nvCxnSpPr>
          <p:spPr>
            <a:xfrm flipH="1" rot="16200000">
              <a:off x="7106760" y="3411360"/>
              <a:ext cx="157680" cy="132120"/>
            </a:xfrm>
            <a:prstGeom prst="bentConnector2">
              <a:avLst/>
            </a:prstGeom>
            <a:ln w="9360">
              <a:solidFill>
                <a:srgbClr val="7b0a14"/>
              </a:solidFill>
              <a:miter/>
            </a:ln>
          </p:spPr>
        </p:cxnSp>
        <p:sp>
          <p:nvSpPr>
            <p:cNvPr id="1191" name="AutoShape 28"/>
            <p:cNvSpPr/>
            <p:nvPr/>
          </p:nvSpPr>
          <p:spPr>
            <a:xfrm>
              <a:off x="7252200" y="3228480"/>
              <a:ext cx="204120" cy="159480"/>
            </a:xfrm>
            <a:prstGeom prst="flowChartProcess">
              <a:avLst/>
            </a:prstGeom>
            <a:solidFill>
              <a:srgbClr val="fed8d6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cxnSp>
          <p:nvCxnSpPr>
            <p:cNvPr id="1192" name="AutoShape 29"/>
            <p:cNvCxnSpPr>
              <a:stCxn id="1191" idx="1"/>
              <a:endCxn id="1187" idx="3"/>
            </p:cNvCxnSpPr>
            <p:nvPr/>
          </p:nvCxnSpPr>
          <p:spPr>
            <a:xfrm rot="10800000">
              <a:off x="7216560" y="3306960"/>
              <a:ext cx="35280" cy="1440"/>
            </a:xfrm>
            <a:prstGeom prst="bentConnector3">
              <a:avLst>
                <a:gd name="adj1" fmla="val 49484"/>
              </a:avLst>
            </a:prstGeom>
            <a:ln w="9360">
              <a:solidFill>
                <a:srgbClr val="7b0a14"/>
              </a:solidFill>
              <a:miter/>
            </a:ln>
          </p:spPr>
        </p:cxnSp>
      </p:grpSp>
      <p:grpSp>
        <p:nvGrpSpPr>
          <p:cNvPr id="1193" name="Group 30"/>
          <p:cNvGrpSpPr/>
          <p:nvPr/>
        </p:nvGrpSpPr>
        <p:grpSpPr>
          <a:xfrm>
            <a:off x="7805880" y="3057480"/>
            <a:ext cx="637920" cy="577440"/>
            <a:chOff x="7805880" y="3057480"/>
            <a:chExt cx="637920" cy="577440"/>
          </a:xfrm>
        </p:grpSpPr>
        <p:sp>
          <p:nvSpPr>
            <p:cNvPr id="1194" name="AutoShape 31"/>
            <p:cNvSpPr/>
            <p:nvPr/>
          </p:nvSpPr>
          <p:spPr>
            <a:xfrm>
              <a:off x="7805880" y="3057480"/>
              <a:ext cx="204120" cy="159480"/>
            </a:xfrm>
            <a:prstGeom prst="flowChartProcess">
              <a:avLst/>
            </a:prstGeom>
            <a:solidFill>
              <a:srgbClr val="fed8d6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95" name="AutoShape 32"/>
            <p:cNvSpPr/>
            <p:nvPr/>
          </p:nvSpPr>
          <p:spPr>
            <a:xfrm>
              <a:off x="8010000" y="3216960"/>
              <a:ext cx="194400" cy="181440"/>
            </a:xfrm>
            <a:prstGeom prst="flowChartDecision">
              <a:avLst/>
            </a:prstGeom>
            <a:solidFill>
              <a:srgbClr val="fdb1ad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96" name="AutoShape 33"/>
            <p:cNvSpPr/>
            <p:nvPr/>
          </p:nvSpPr>
          <p:spPr>
            <a:xfrm>
              <a:off x="8239680" y="3475440"/>
              <a:ext cx="204120" cy="159480"/>
            </a:xfrm>
            <a:prstGeom prst="flowChartProcess">
              <a:avLst/>
            </a:prstGeom>
            <a:solidFill>
              <a:srgbClr val="fed8d6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cxnSp>
          <p:nvCxnSpPr>
            <p:cNvPr id="1197" name="AutoShape 34"/>
            <p:cNvCxnSpPr>
              <a:stCxn id="1194" idx="2"/>
              <a:endCxn id="1195" idx="1"/>
            </p:cNvCxnSpPr>
            <p:nvPr/>
          </p:nvCxnSpPr>
          <p:spPr>
            <a:xfrm flipH="1" rot="16200000">
              <a:off x="7913880" y="3211200"/>
              <a:ext cx="91440" cy="102240"/>
            </a:xfrm>
            <a:prstGeom prst="bentConnector2">
              <a:avLst/>
            </a:prstGeom>
            <a:ln w="9360">
              <a:solidFill>
                <a:srgbClr val="7b0a14"/>
              </a:solidFill>
              <a:miter/>
            </a:ln>
          </p:spPr>
        </p:cxnSp>
        <p:cxnSp>
          <p:nvCxnSpPr>
            <p:cNvPr id="1198" name="AutoShape 35"/>
            <p:cNvCxnSpPr>
              <a:stCxn id="1195" idx="2"/>
              <a:endCxn id="1196" idx="1"/>
            </p:cNvCxnSpPr>
            <p:nvPr/>
          </p:nvCxnSpPr>
          <p:spPr>
            <a:xfrm flipH="1" rot="16200000">
              <a:off x="8094240" y="3411360"/>
              <a:ext cx="157680" cy="132120"/>
            </a:xfrm>
            <a:prstGeom prst="bentConnector2">
              <a:avLst/>
            </a:prstGeom>
            <a:ln w="9360">
              <a:solidFill>
                <a:srgbClr val="7b0a14"/>
              </a:solidFill>
              <a:miter/>
            </a:ln>
          </p:spPr>
        </p:cxnSp>
        <p:sp>
          <p:nvSpPr>
            <p:cNvPr id="1199" name="AutoShape 36"/>
            <p:cNvSpPr/>
            <p:nvPr/>
          </p:nvSpPr>
          <p:spPr>
            <a:xfrm>
              <a:off x="8239680" y="3228480"/>
              <a:ext cx="204120" cy="159480"/>
            </a:xfrm>
            <a:prstGeom prst="flowChartProcess">
              <a:avLst/>
            </a:prstGeom>
            <a:solidFill>
              <a:srgbClr val="fed8d6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cxnSp>
          <p:nvCxnSpPr>
            <p:cNvPr id="1200" name="AutoShape 37"/>
            <p:cNvCxnSpPr>
              <a:stCxn id="1199" idx="1"/>
              <a:endCxn id="1195" idx="3"/>
            </p:cNvCxnSpPr>
            <p:nvPr/>
          </p:nvCxnSpPr>
          <p:spPr>
            <a:xfrm rot="10800000">
              <a:off x="8204040" y="3306960"/>
              <a:ext cx="35280" cy="1440"/>
            </a:xfrm>
            <a:prstGeom prst="bentConnector3">
              <a:avLst>
                <a:gd name="adj1" fmla="val 49484"/>
              </a:avLst>
            </a:prstGeom>
            <a:ln w="9360">
              <a:solidFill>
                <a:srgbClr val="7b0a14"/>
              </a:solidFill>
              <a:miter/>
            </a:ln>
          </p:spPr>
        </p:cxnSp>
      </p:grpSp>
      <p:pic>
        <p:nvPicPr>
          <p:cNvPr id="1201" name="Picture 38" descr="j0285750"/>
          <p:cNvPicPr/>
          <p:nvPr/>
        </p:nvPicPr>
        <p:blipFill>
          <a:blip r:embed="rId3"/>
          <a:stretch/>
        </p:blipFill>
        <p:spPr>
          <a:xfrm>
            <a:off x="7618320" y="1592280"/>
            <a:ext cx="895320" cy="552600"/>
          </a:xfrm>
          <a:prstGeom prst="rect">
            <a:avLst/>
          </a:prstGeom>
          <a:ln w="0">
            <a:noFill/>
          </a:ln>
        </p:spPr>
      </p:pic>
      <p:sp>
        <p:nvSpPr>
          <p:cNvPr id="1202" name="Text Box 39"/>
          <p:cNvSpPr/>
          <p:nvPr/>
        </p:nvSpPr>
        <p:spPr>
          <a:xfrm>
            <a:off x="7632720" y="2228760"/>
            <a:ext cx="93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a14"/>
                </a:solidFill>
                <a:latin typeface="Arial"/>
              </a:rPr>
              <a:t>Internet</a:t>
            </a:r>
            <a:endParaRPr b="0" lang="en-US" sz="10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03" name="Text Box 40"/>
          <p:cNvSpPr/>
          <p:nvPr/>
        </p:nvSpPr>
        <p:spPr>
          <a:xfrm rot="16200000">
            <a:off x="4974480" y="5223240"/>
            <a:ext cx="10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0a14"/>
                </a:solidFill>
                <a:latin typeface="Arial"/>
              </a:rPr>
              <a:t>Legacy Environment</a:t>
            </a:r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04" name="Text Box 41"/>
          <p:cNvSpPr/>
          <p:nvPr/>
        </p:nvSpPr>
        <p:spPr>
          <a:xfrm rot="16200000">
            <a:off x="4974480" y="3278520"/>
            <a:ext cx="10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0a14"/>
                </a:solidFill>
                <a:latin typeface="Arial"/>
              </a:rPr>
              <a:t>Business Processes</a:t>
            </a:r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05" name="Text Box 42"/>
          <p:cNvSpPr/>
          <p:nvPr/>
        </p:nvSpPr>
        <p:spPr>
          <a:xfrm rot="16200000">
            <a:off x="5056200" y="1839240"/>
            <a:ext cx="919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0a14"/>
                </a:solidFill>
                <a:latin typeface="Arial"/>
              </a:rPr>
              <a:t>Channels</a:t>
            </a:r>
            <a:endParaRPr b="0" lang="en-US" sz="1200" spc="-1" strike="noStrike">
              <a:solidFill>
                <a:srgbClr val="7b0a14"/>
              </a:solidFill>
              <a:latin typeface="Arial"/>
            </a:endParaRPr>
          </a:p>
        </p:txBody>
      </p:sp>
      <p:cxnSp>
        <p:nvCxnSpPr>
          <p:cNvPr id="1206" name="AutoShape 43"/>
          <p:cNvCxnSpPr>
            <a:stCxn id="1171" idx="2"/>
            <a:endCxn id="1168" idx="1"/>
          </p:cNvCxnSpPr>
          <p:nvPr/>
        </p:nvCxnSpPr>
        <p:spPr>
          <a:xfrm rot="5400000">
            <a:off x="6671520" y="4554000"/>
            <a:ext cx="384840" cy="801000"/>
          </a:xfrm>
          <a:prstGeom prst="bentConnector3">
            <a:avLst>
              <a:gd name="adj1" fmla="val 50000"/>
            </a:avLst>
          </a:prstGeom>
          <a:ln w="9360">
            <a:solidFill>
              <a:srgbClr val="7b0a14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07" name="AutoShape 44"/>
          <p:cNvCxnSpPr>
            <a:stCxn id="1171" idx="2"/>
            <a:endCxn id="1169" idx="1"/>
          </p:cNvCxnSpPr>
          <p:nvPr/>
        </p:nvCxnSpPr>
        <p:spPr>
          <a:xfrm flipH="1">
            <a:off x="7263720" y="4762080"/>
            <a:ext cx="1080" cy="384840"/>
          </a:xfrm>
          <a:prstGeom prst="straightConnector1">
            <a:avLst/>
          </a:prstGeom>
          <a:ln w="9360">
            <a:solidFill>
              <a:srgbClr val="7b0a14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08" name="AutoShape 45"/>
          <p:cNvCxnSpPr>
            <a:stCxn id="1171" idx="2"/>
            <a:endCxn id="1170" idx="1"/>
          </p:cNvCxnSpPr>
          <p:nvPr/>
        </p:nvCxnSpPr>
        <p:spPr>
          <a:xfrm flipH="1" rot="16200000">
            <a:off x="7492680" y="4532760"/>
            <a:ext cx="384840" cy="843480"/>
          </a:xfrm>
          <a:prstGeom prst="bentConnector3">
            <a:avLst>
              <a:gd name="adj1" fmla="val 50000"/>
            </a:avLst>
          </a:prstGeom>
          <a:ln w="9360">
            <a:solidFill>
              <a:srgbClr val="7b0a14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09" name="AutoShape 46"/>
          <p:cNvCxnSpPr>
            <a:stCxn id="1180" idx="2"/>
            <a:endCxn id="1171" idx="0"/>
          </p:cNvCxnSpPr>
          <p:nvPr/>
        </p:nvCxnSpPr>
        <p:spPr>
          <a:xfrm flipH="1" rot="16200000">
            <a:off x="6581880" y="3461400"/>
            <a:ext cx="289440" cy="1075320"/>
          </a:xfrm>
          <a:prstGeom prst="bentConnector3">
            <a:avLst>
              <a:gd name="adj1" fmla="val 49937"/>
            </a:avLst>
          </a:prstGeom>
          <a:ln w="9360">
            <a:solidFill>
              <a:srgbClr val="7b0a14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0" name="AutoShape 47"/>
          <p:cNvCxnSpPr>
            <a:stCxn id="1181" idx="2"/>
            <a:endCxn id="1171" idx="0"/>
          </p:cNvCxnSpPr>
          <p:nvPr/>
        </p:nvCxnSpPr>
        <p:spPr>
          <a:xfrm rot="5400000">
            <a:off x="7120800" y="3997080"/>
            <a:ext cx="289440" cy="3960"/>
          </a:xfrm>
          <a:prstGeom prst="bentConnector3">
            <a:avLst>
              <a:gd name="adj1" fmla="val 49937"/>
            </a:avLst>
          </a:prstGeom>
          <a:ln w="9360">
            <a:solidFill>
              <a:srgbClr val="7b0a14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1" name="AutoShape 48"/>
          <p:cNvCxnSpPr>
            <a:stCxn id="1182" idx="2"/>
            <a:endCxn id="1171" idx="0"/>
          </p:cNvCxnSpPr>
          <p:nvPr/>
        </p:nvCxnSpPr>
        <p:spPr>
          <a:xfrm rot="5400000">
            <a:off x="7616520" y="3502080"/>
            <a:ext cx="289440" cy="993960"/>
          </a:xfrm>
          <a:prstGeom prst="bentConnector3">
            <a:avLst>
              <a:gd name="adj1" fmla="val 49937"/>
            </a:avLst>
          </a:prstGeom>
          <a:ln w="9360">
            <a:solidFill>
              <a:srgbClr val="7b0a14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12" name="Text Box 49"/>
          <p:cNvSpPr/>
          <p:nvPr/>
        </p:nvSpPr>
        <p:spPr>
          <a:xfrm>
            <a:off x="6680160" y="2228760"/>
            <a:ext cx="93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a14"/>
                </a:solidFill>
                <a:latin typeface="Arial"/>
              </a:rPr>
              <a:t>Agency</a:t>
            </a:r>
            <a:endParaRPr b="0" lang="en-US" sz="10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13" name="Text Box 50"/>
          <p:cNvSpPr/>
          <p:nvPr/>
        </p:nvSpPr>
        <p:spPr>
          <a:xfrm>
            <a:off x="5888160" y="2228760"/>
            <a:ext cx="93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b0a14"/>
                </a:solidFill>
                <a:latin typeface="Arial"/>
              </a:rPr>
              <a:t>Call Center</a:t>
            </a:r>
            <a:endParaRPr b="0" lang="en-US" sz="10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14" name="AutoShape 51"/>
          <p:cNvSpPr/>
          <p:nvPr/>
        </p:nvSpPr>
        <p:spPr>
          <a:xfrm>
            <a:off x="6045120" y="2519280"/>
            <a:ext cx="2211480" cy="4017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dddddd"/>
          </a:solidFill>
          <a:ln w="9360">
            <a:solidFill>
              <a:srgbClr val="7b0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ctr">
            <a:noAutofit/>
          </a:bodyPr>
          <a:p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pic>
        <p:nvPicPr>
          <p:cNvPr id="1215" name="Picture 54" descr="j0311328"/>
          <p:cNvPicPr/>
          <p:nvPr/>
        </p:nvPicPr>
        <p:blipFill>
          <a:blip r:embed="rId4"/>
          <a:stretch/>
        </p:blipFill>
        <p:spPr>
          <a:xfrm>
            <a:off x="7953480" y="4213080"/>
            <a:ext cx="307800" cy="349560"/>
          </a:xfrm>
          <a:prstGeom prst="rect">
            <a:avLst/>
          </a:prstGeom>
          <a:ln w="0">
            <a:noFill/>
          </a:ln>
        </p:spPr>
      </p:pic>
      <p:grpSp>
        <p:nvGrpSpPr>
          <p:cNvPr id="1216" name="Group 55"/>
          <p:cNvGrpSpPr/>
          <p:nvPr/>
        </p:nvGrpSpPr>
        <p:grpSpPr>
          <a:xfrm>
            <a:off x="6119640" y="4210200"/>
            <a:ext cx="412920" cy="374400"/>
            <a:chOff x="6119640" y="4210200"/>
            <a:chExt cx="412920" cy="374400"/>
          </a:xfrm>
        </p:grpSpPr>
        <p:sp>
          <p:nvSpPr>
            <p:cNvPr id="1217" name="AutoShape 56"/>
            <p:cNvSpPr/>
            <p:nvPr/>
          </p:nvSpPr>
          <p:spPr>
            <a:xfrm>
              <a:off x="6119640" y="4210200"/>
              <a:ext cx="132120" cy="103320"/>
            </a:xfrm>
            <a:prstGeom prst="flowChartProcess">
              <a:avLst/>
            </a:prstGeom>
            <a:solidFill>
              <a:srgbClr val="fed8d6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218" name="AutoShape 57"/>
            <p:cNvSpPr/>
            <p:nvPr/>
          </p:nvSpPr>
          <p:spPr>
            <a:xfrm>
              <a:off x="6251760" y="4313520"/>
              <a:ext cx="126000" cy="117720"/>
            </a:xfrm>
            <a:prstGeom prst="flowChartDecision">
              <a:avLst/>
            </a:prstGeom>
            <a:solidFill>
              <a:srgbClr val="fdb1ad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219" name="AutoShape 58"/>
            <p:cNvSpPr/>
            <p:nvPr/>
          </p:nvSpPr>
          <p:spPr>
            <a:xfrm>
              <a:off x="6400440" y="4481280"/>
              <a:ext cx="132120" cy="103320"/>
            </a:xfrm>
            <a:prstGeom prst="flowChartProcess">
              <a:avLst/>
            </a:prstGeom>
            <a:solidFill>
              <a:srgbClr val="fed8d6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cxnSp>
          <p:nvCxnSpPr>
            <p:cNvPr id="1220" name="AutoShape 59"/>
            <p:cNvCxnSpPr>
              <a:stCxn id="1217" idx="2"/>
              <a:endCxn id="1218" idx="1"/>
            </p:cNvCxnSpPr>
            <p:nvPr/>
          </p:nvCxnSpPr>
          <p:spPr>
            <a:xfrm flipH="1" rot="16200000">
              <a:off x="6189120" y="4309560"/>
              <a:ext cx="59400" cy="66240"/>
            </a:xfrm>
            <a:prstGeom prst="bentConnector2">
              <a:avLst/>
            </a:prstGeom>
            <a:ln w="9360">
              <a:solidFill>
                <a:srgbClr val="7b0a14"/>
              </a:solidFill>
              <a:miter/>
            </a:ln>
          </p:spPr>
        </p:cxnSp>
        <p:cxnSp>
          <p:nvCxnSpPr>
            <p:cNvPr id="1221" name="AutoShape 60"/>
            <p:cNvCxnSpPr>
              <a:stCxn id="1218" idx="2"/>
              <a:endCxn id="1219" idx="1"/>
            </p:cNvCxnSpPr>
            <p:nvPr/>
          </p:nvCxnSpPr>
          <p:spPr>
            <a:xfrm flipH="1" rot="16200000">
              <a:off x="6306480" y="4439160"/>
              <a:ext cx="102600" cy="85680"/>
            </a:xfrm>
            <a:prstGeom prst="bentConnector2">
              <a:avLst/>
            </a:prstGeom>
            <a:ln w="9360">
              <a:solidFill>
                <a:srgbClr val="7b0a14"/>
              </a:solidFill>
              <a:miter/>
            </a:ln>
          </p:spPr>
        </p:cxnSp>
        <p:sp>
          <p:nvSpPr>
            <p:cNvPr id="1222" name="AutoShape 61"/>
            <p:cNvSpPr/>
            <p:nvPr/>
          </p:nvSpPr>
          <p:spPr>
            <a:xfrm>
              <a:off x="6400440" y="4321080"/>
              <a:ext cx="132120" cy="103320"/>
            </a:xfrm>
            <a:prstGeom prst="flowChartProcess">
              <a:avLst/>
            </a:prstGeom>
            <a:solidFill>
              <a:srgbClr val="fed8d6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4800" tIns="0" bIns="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cxnSp>
          <p:nvCxnSpPr>
            <p:cNvPr id="1223" name="AutoShape 62"/>
            <p:cNvCxnSpPr>
              <a:stCxn id="1222" idx="1"/>
              <a:endCxn id="1218" idx="3"/>
            </p:cNvCxnSpPr>
            <p:nvPr/>
          </p:nvCxnSpPr>
          <p:spPr>
            <a:xfrm rot="10800000">
              <a:off x="6377040" y="4371840"/>
              <a:ext cx="23040" cy="1080"/>
            </a:xfrm>
            <a:prstGeom prst="bentConnector3">
              <a:avLst>
                <a:gd name="adj1" fmla="val 49206"/>
              </a:avLst>
            </a:prstGeom>
            <a:ln w="9360">
              <a:solidFill>
                <a:srgbClr val="7b0a14"/>
              </a:solidFill>
              <a:miter/>
            </a:ln>
          </p:spPr>
        </p:cxnSp>
      </p:grpSp>
      <p:sp>
        <p:nvSpPr>
          <p:cNvPr id="1224" name="Text Box 63"/>
          <p:cNvSpPr/>
          <p:nvPr/>
        </p:nvSpPr>
        <p:spPr>
          <a:xfrm>
            <a:off x="7827840" y="4584600"/>
            <a:ext cx="47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b0a14"/>
                </a:solidFill>
                <a:latin typeface="Arial"/>
              </a:rPr>
              <a:t>Rules</a:t>
            </a:r>
            <a:endParaRPr b="0" lang="en-US" sz="10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225" name="Text Box 64"/>
          <p:cNvSpPr/>
          <p:nvPr/>
        </p:nvSpPr>
        <p:spPr>
          <a:xfrm>
            <a:off x="5998320" y="4584600"/>
            <a:ext cx="69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480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b0a14"/>
                </a:solidFill>
                <a:latin typeface="Arial"/>
              </a:rPr>
              <a:t>Workflow</a:t>
            </a:r>
            <a:endParaRPr b="0" lang="en-US" sz="10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79280" y="608040"/>
            <a:ext cx="8786880" cy="8208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subTitle"/>
          </p:nvPr>
        </p:nvSpPr>
        <p:spPr>
          <a:xfrm>
            <a:off x="162000" y="1752120"/>
            <a:ext cx="880416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1440" indent="379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c1c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Why is data required for GPR?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1440" indent="379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c1c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Understand the types of data relevant to the process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1440" indent="379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c1c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Learn how to identify which data to collect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1440" indent="379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c1c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Understand sampling and other data collection techniques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  <p:pic>
        <p:nvPicPr>
          <p:cNvPr id="1081" name="Picture 2" descr=""/>
          <p:cNvPicPr/>
          <p:nvPr/>
        </p:nvPicPr>
        <p:blipFill>
          <a:blip r:embed="rId1"/>
          <a:stretch/>
        </p:blipFill>
        <p:spPr>
          <a:xfrm>
            <a:off x="6953400" y="228600"/>
            <a:ext cx="1733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62000" y="493560"/>
            <a:ext cx="8804160" cy="8208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hy to collect data? (1 of 2)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pic>
        <p:nvPicPr>
          <p:cNvPr id="1083" name="Picture 2" descr="HIJUMP"/>
          <p:cNvPicPr/>
          <p:nvPr/>
        </p:nvPicPr>
        <p:blipFill>
          <a:blip r:embed="rId1"/>
          <a:stretch/>
        </p:blipFill>
        <p:spPr>
          <a:xfrm>
            <a:off x="1319040" y="1609560"/>
            <a:ext cx="6504120" cy="4335480"/>
          </a:xfrm>
          <a:prstGeom prst="rect">
            <a:avLst/>
          </a:prstGeom>
          <a:ln w="0">
            <a:noFill/>
          </a:ln>
        </p:spPr>
      </p:pic>
      <p:sp>
        <p:nvSpPr>
          <p:cNvPr id="1084" name="Text Box 8"/>
          <p:cNvSpPr/>
          <p:nvPr/>
        </p:nvSpPr>
        <p:spPr>
          <a:xfrm>
            <a:off x="458640" y="4199040"/>
            <a:ext cx="813780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76"/>
              </a:spcBef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What gets Focused gets Measured</a:t>
            </a:r>
            <a:endParaRPr b="0" lang="en-US" sz="1900" spc="-1" strike="noStrike">
              <a:solidFill>
                <a:srgbClr val="7b0a14"/>
              </a:solidFill>
              <a:latin typeface="Arial"/>
            </a:endParaRPr>
          </a:p>
          <a:p>
            <a:pPr algn="ctr">
              <a:spcBef>
                <a:spcPts val="476"/>
              </a:spcBef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What gets Measured gets Achieved</a:t>
            </a:r>
            <a:endParaRPr b="0" lang="en-US" sz="1900" spc="-1" strike="noStrike">
              <a:solidFill>
                <a:srgbClr val="7b0a14"/>
              </a:solidFill>
              <a:latin typeface="Arial"/>
            </a:endParaRPr>
          </a:p>
          <a:p>
            <a:pPr algn="ctr">
              <a:spcBef>
                <a:spcPts val="476"/>
              </a:spcBef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What gets Achieved gets Recognised</a:t>
            </a:r>
            <a:endParaRPr b="0" lang="en-US" sz="1900" spc="-1" strike="noStrike">
              <a:solidFill>
                <a:srgbClr val="7b0a14"/>
              </a:solidFill>
              <a:latin typeface="Arial"/>
            </a:endParaRPr>
          </a:p>
          <a:p>
            <a:pPr algn="ctr">
              <a:spcBef>
                <a:spcPts val="476"/>
              </a:spcBef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What gets Recognised gets Institutionalised</a:t>
            </a:r>
            <a:endParaRPr b="0" lang="en-US" sz="19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62000" y="608040"/>
            <a:ext cx="8804160" cy="8208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hy to collect data? (2 of 2)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86" name="Content Placeholder 9"/>
          <p:cNvSpPr/>
          <p:nvPr/>
        </p:nvSpPr>
        <p:spPr>
          <a:xfrm>
            <a:off x="160200" y="1666800"/>
            <a:ext cx="882180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9200" indent="-349200">
              <a:lnSpc>
                <a:spcPct val="120000"/>
              </a:lnSpc>
              <a:buClr>
                <a:srgbClr val="1c1c1c"/>
              </a:buClr>
              <a:buSzPct val="90000"/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Data is used in process analysis</a:t>
            </a:r>
            <a:endParaRPr b="0" lang="en-US" sz="2000" spc="-1" strike="noStrike">
              <a:solidFill>
                <a:srgbClr val="7b0a14"/>
              </a:solidFill>
              <a:latin typeface="Arial"/>
            </a:endParaRPr>
          </a:p>
          <a:p>
            <a:pPr lvl="1" marL="577800" indent="-228600">
              <a:lnSpc>
                <a:spcPct val="120000"/>
              </a:lnSpc>
              <a:spcAft>
                <a:spcPts val="451"/>
              </a:spcAft>
              <a:buClr>
                <a:srgbClr val="1c1c1c"/>
              </a:buClr>
              <a:buSzPct val="90000"/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o quantify the problem at hand (“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it takes too long for getting a passport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” vs. 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“issuance of the passport takes 41 days on average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”)</a:t>
            </a: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  <a:p>
            <a:pPr lvl="1" marL="577800" indent="-228600">
              <a:lnSpc>
                <a:spcPct val="120000"/>
              </a:lnSpc>
              <a:spcAft>
                <a:spcPts val="451"/>
              </a:spcAft>
              <a:buClr>
                <a:srgbClr val="1c1c1c"/>
              </a:buClr>
              <a:buSzPct val="90000"/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o identify which sub process is the least efficient</a:t>
            </a: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  <a:p>
            <a:pPr lvl="1" marL="577800" indent="-228600">
              <a:lnSpc>
                <a:spcPct val="120000"/>
              </a:lnSpc>
              <a:spcAft>
                <a:spcPts val="451"/>
              </a:spcAft>
              <a:buClr>
                <a:srgbClr val="1c1c1c"/>
              </a:buClr>
              <a:buSzPct val="90000"/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Shows bottlenecks, idle time, productive time</a:t>
            </a: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  <a:p>
            <a:pPr lvl="1" marL="577800" indent="-228600">
              <a:lnSpc>
                <a:spcPct val="120000"/>
              </a:lnSpc>
              <a:spcAft>
                <a:spcPts val="451"/>
              </a:spcAft>
              <a:buClr>
                <a:srgbClr val="1c1c1c"/>
              </a:buClr>
              <a:buSzPct val="90000"/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  <a:p>
            <a:pPr marL="349200" indent="-349200">
              <a:lnSpc>
                <a:spcPct val="120000"/>
              </a:lnSpc>
              <a:buClr>
                <a:srgbClr val="1c1c1c"/>
              </a:buClr>
              <a:buSzPct val="90000"/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Use of Data in Monitoring &amp; Evaluation</a:t>
            </a:r>
            <a:endParaRPr b="0" lang="en-US" sz="2000" spc="-1" strike="noStrike">
              <a:solidFill>
                <a:srgbClr val="7b0a14"/>
              </a:solidFill>
              <a:latin typeface="Arial"/>
            </a:endParaRPr>
          </a:p>
          <a:p>
            <a:pPr lvl="1" marL="577800" indent="-228600">
              <a:lnSpc>
                <a:spcPct val="120000"/>
              </a:lnSpc>
              <a:spcAft>
                <a:spcPts val="451"/>
              </a:spcAft>
              <a:buClr>
                <a:srgbClr val="1c1c1c"/>
              </a:buClr>
              <a:buSzPct val="90000"/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o identify the metrics to be monitored post implementation of GPR</a:t>
            </a: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  <a:p>
            <a:pPr lvl="1" marL="577800" indent="-228600">
              <a:lnSpc>
                <a:spcPct val="120000"/>
              </a:lnSpc>
              <a:spcAft>
                <a:spcPts val="451"/>
              </a:spcAft>
              <a:buClr>
                <a:srgbClr val="1c1c1c"/>
              </a:buClr>
              <a:buSzPct val="90000"/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Setting target metrics (“to-be” state)</a:t>
            </a: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  <a:p>
            <a:pPr lvl="1" marL="577800" indent="-228600">
              <a:lnSpc>
                <a:spcPct val="120000"/>
              </a:lnSpc>
              <a:spcAft>
                <a:spcPts val="451"/>
              </a:spcAft>
              <a:buClr>
                <a:srgbClr val="1c1c1c"/>
              </a:buClr>
              <a:buSzPct val="90000"/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o obtain baseline metrics (“as-is” state) </a:t>
            </a: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  <a:p>
            <a:pPr lvl="1" marL="577800" indent="-228600">
              <a:lnSpc>
                <a:spcPct val="120000"/>
              </a:lnSpc>
              <a:spcAft>
                <a:spcPts val="451"/>
              </a:spcAft>
              <a:buClr>
                <a:srgbClr val="1c1c1c"/>
              </a:buClr>
              <a:buSzPct val="90000"/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o measure and showcase project success (“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Average time for passport issuance has come down from 41 days to 5 days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”)</a:t>
            </a: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0a14"/>
                </a:solidFill>
                <a:latin typeface="Arial"/>
              </a:rPr>
              <a:t>Measure of Excellence / Performance metrics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338040" y="1535040"/>
            <a:ext cx="4114800" cy="23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0" algn="ctr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Customer / Citizen’s Point of view</a:t>
            </a:r>
            <a:endParaRPr b="0" lang="en-US" sz="18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10000"/>
              </a:lnSpc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Hassle free service delivery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10000"/>
              </a:lnSpc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Adhering to promises made on Turnaround Time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10000"/>
              </a:lnSpc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ror free deliverables – Deliver the right product at right place at right time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10000"/>
              </a:lnSpc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Value for money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10000"/>
              </a:lnSpc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ustomer Satisfaction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562640" y="1520640"/>
            <a:ext cx="4114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0" algn="ctr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Stakeholder’s Point of view</a:t>
            </a:r>
            <a:endParaRPr b="0" lang="en-US" sz="18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10000"/>
              </a:lnSpc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More time to carry out value adding tasks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10000"/>
              </a:lnSpc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Doing more with less resources 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10000"/>
              </a:lnSpc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Higher revenue to the department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10000"/>
              </a:lnSpc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Accountability &amp; Transparency issues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10000"/>
              </a:lnSpc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Providing error free service delivery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</p:txBody>
      </p:sp>
      <p:pic>
        <p:nvPicPr>
          <p:cNvPr id="1090" name="Content Placeholder 7" descr=""/>
          <p:cNvPicPr/>
          <p:nvPr/>
        </p:nvPicPr>
        <p:blipFill>
          <a:blip r:embed="rId1"/>
          <a:stretch/>
        </p:blipFill>
        <p:spPr>
          <a:xfrm>
            <a:off x="231840" y="4273560"/>
            <a:ext cx="4230720" cy="1859040"/>
          </a:xfrm>
          <a:prstGeom prst="rect">
            <a:avLst/>
          </a:prstGeom>
          <a:ln w="0">
            <a:noFill/>
          </a:ln>
        </p:spPr>
      </p:pic>
      <p:pic>
        <p:nvPicPr>
          <p:cNvPr id="1091" name="Content Placeholder 11" descr=""/>
          <p:cNvPicPr/>
          <p:nvPr/>
        </p:nvPicPr>
        <p:blipFill>
          <a:blip r:embed="rId2"/>
          <a:stretch/>
        </p:blipFill>
        <p:spPr>
          <a:xfrm>
            <a:off x="4548240" y="4303800"/>
            <a:ext cx="4430520" cy="1815840"/>
          </a:xfrm>
          <a:prstGeom prst="rect">
            <a:avLst/>
          </a:prstGeom>
          <a:ln w="0">
            <a:noFill/>
          </a:ln>
        </p:spPr>
      </p:pic>
      <p:sp>
        <p:nvSpPr>
          <p:cNvPr id="1092" name="Down Arrow 8"/>
          <p:cNvSpPr/>
          <p:nvPr/>
        </p:nvSpPr>
        <p:spPr>
          <a:xfrm>
            <a:off x="1989000" y="3919680"/>
            <a:ext cx="333360" cy="333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f05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93" name="Down Arrow 11"/>
          <p:cNvSpPr/>
          <p:nvPr/>
        </p:nvSpPr>
        <p:spPr>
          <a:xfrm>
            <a:off x="6477120" y="3905280"/>
            <a:ext cx="333360" cy="333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f05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noAutofit/>
          </a:bodyPr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ritical To Process metrics (CTPs)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pic>
        <p:nvPicPr>
          <p:cNvPr id="1095" name="Picture 4" descr=""/>
          <p:cNvPicPr/>
          <p:nvPr/>
        </p:nvPicPr>
        <p:blipFill>
          <a:blip r:embed="rId1"/>
          <a:srcRect l="0" t="0" r="0" b="59487"/>
          <a:stretch/>
        </p:blipFill>
        <p:spPr>
          <a:xfrm>
            <a:off x="547560" y="4167360"/>
            <a:ext cx="8147160" cy="1861920"/>
          </a:xfrm>
          <a:prstGeom prst="rect">
            <a:avLst/>
          </a:prstGeom>
          <a:ln w="0">
            <a:noFill/>
          </a:ln>
        </p:spPr>
      </p:pic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68120" y="1371600"/>
            <a:ext cx="867096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CTPs are the levers for delivering on the MoE / MoPs</a:t>
            </a:r>
            <a:endParaRPr b="0" lang="en-US" sz="18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lnSpc>
                <a:spcPct val="110000"/>
              </a:lnSpc>
              <a:spcAft>
                <a:spcPts val="400"/>
              </a:spcAft>
              <a:buClr>
                <a:srgbClr val="1c1c1c"/>
              </a:buClr>
              <a:buFont typeface="Wingdings" charset="2"/>
              <a:buChar char="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Parameters from the various phases of the process which drive the MoE / MoPs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lnSpc>
                <a:spcPct val="110000"/>
              </a:lnSpc>
              <a:spcAft>
                <a:spcPts val="400"/>
              </a:spcAft>
              <a:buClr>
                <a:srgbClr val="1c1c1c"/>
              </a:buClr>
              <a:buFont typeface="Wingdings" charset="2"/>
              <a:buChar char="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TPs are not end to end but are specific to sub-processes and need to be measured &amp; streamlined in order to improve the MoE/MoPs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lvl="2" marL="806400" indent="-228600">
              <a:lnSpc>
                <a:spcPct val="110000"/>
              </a:lnSpc>
              <a:spcAft>
                <a:spcPts val="400"/>
              </a:spcAft>
              <a:buClr>
                <a:srgbClr val="1c1c1c"/>
              </a:buClr>
              <a:buFont typeface="Wingdings" charset="2"/>
              <a:buChar char="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he CTPs act as design variable – the specifications for CTPs get dictated by the MoE / MoPs targets which in turn influences the associated sub-process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349200" indent="-34920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MoE / MoPs = F (CTP)</a:t>
            </a:r>
            <a:endParaRPr b="0" lang="en-US" sz="1800" spc="-1" strike="noStrike">
              <a:solidFill>
                <a:srgbClr val="bf0509"/>
              </a:solidFill>
              <a:latin typeface="Arial"/>
            </a:endParaRPr>
          </a:p>
        </p:txBody>
      </p:sp>
      <p:sp>
        <p:nvSpPr>
          <p:cNvPr id="1097" name="Oval 6"/>
          <p:cNvSpPr/>
          <p:nvPr/>
        </p:nvSpPr>
        <p:spPr>
          <a:xfrm>
            <a:off x="1698480" y="4714920"/>
            <a:ext cx="884520" cy="581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b0a14"/>
                </a:solidFill>
                <a:latin typeface="Arial"/>
              </a:rPr>
              <a:t>CTP1</a:t>
            </a:r>
            <a:endParaRPr b="0" lang="en-US" sz="1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98" name="Oval 7"/>
          <p:cNvSpPr/>
          <p:nvPr/>
        </p:nvSpPr>
        <p:spPr>
          <a:xfrm>
            <a:off x="3462480" y="3645000"/>
            <a:ext cx="884160" cy="5792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b0a14"/>
                </a:solidFill>
                <a:latin typeface="Arial"/>
              </a:rPr>
              <a:t>CTP2</a:t>
            </a:r>
            <a:endParaRPr b="0" lang="en-US" sz="1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099" name="Oval 8"/>
          <p:cNvSpPr/>
          <p:nvPr/>
        </p:nvSpPr>
        <p:spPr>
          <a:xfrm>
            <a:off x="5780160" y="4714920"/>
            <a:ext cx="885600" cy="581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b0a14"/>
                </a:solidFill>
                <a:latin typeface="Arial"/>
              </a:rPr>
              <a:t>CTP n</a:t>
            </a:r>
            <a:endParaRPr b="0" lang="en-US" sz="1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00" name="Oval 9"/>
          <p:cNvSpPr/>
          <p:nvPr/>
        </p:nvSpPr>
        <p:spPr>
          <a:xfrm>
            <a:off x="7939080" y="3645000"/>
            <a:ext cx="885960" cy="5792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b0a14"/>
                </a:solidFill>
                <a:latin typeface="Arial"/>
              </a:rPr>
              <a:t>MoE / MoP</a:t>
            </a:r>
            <a:endParaRPr b="0" lang="en-US" sz="14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TP parameters are the internal check for the health of the process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02" name="Rectangle 4"/>
          <p:cNvSpPr/>
          <p:nvPr/>
        </p:nvSpPr>
        <p:spPr>
          <a:xfrm>
            <a:off x="2409840" y="5921280"/>
            <a:ext cx="423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MoE/MoPs focus on End to End process while CTPs focus on the sub-process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</p:txBody>
      </p:sp>
      <p:grpSp>
        <p:nvGrpSpPr>
          <p:cNvPr id="1103" name="Group 50"/>
          <p:cNvGrpSpPr/>
          <p:nvPr/>
        </p:nvGrpSpPr>
        <p:grpSpPr>
          <a:xfrm>
            <a:off x="6316560" y="1171440"/>
            <a:ext cx="2470320" cy="2518920"/>
            <a:chOff x="6316560" y="1171440"/>
            <a:chExt cx="2470320" cy="2518920"/>
          </a:xfrm>
        </p:grpSpPr>
        <p:grpSp>
          <p:nvGrpSpPr>
            <p:cNvPr id="1104" name="Group 51"/>
            <p:cNvGrpSpPr/>
            <p:nvPr/>
          </p:nvGrpSpPr>
          <p:grpSpPr>
            <a:xfrm>
              <a:off x="6788160" y="2173320"/>
              <a:ext cx="627480" cy="1517040"/>
              <a:chOff x="6788160" y="2173320"/>
              <a:chExt cx="627480" cy="1517040"/>
            </a:xfrm>
          </p:grpSpPr>
          <p:sp>
            <p:nvSpPr>
              <p:cNvPr id="1105" name="Freeform 52"/>
              <p:cNvSpPr/>
              <p:nvPr/>
            </p:nvSpPr>
            <p:spPr>
              <a:xfrm>
                <a:off x="6900840" y="2423520"/>
                <a:ext cx="315720" cy="26460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264600"/>
                  <a:gd name="textAreaBottom" fmla="*/ 264960 h 264600"/>
                </a:gdLst>
                <a:ahLst/>
                <a:rect l="textAreaLeft" t="textAreaTop" r="textAreaRight" b="textAreaBottom"/>
                <a:pathLst>
                  <a:path w="441" h="437">
                    <a:moveTo>
                      <a:pt x="288" y="126"/>
                    </a:moveTo>
                    <a:lnTo>
                      <a:pt x="234" y="44"/>
                    </a:lnTo>
                    <a:lnTo>
                      <a:pt x="179" y="0"/>
                    </a:lnTo>
                    <a:lnTo>
                      <a:pt x="114" y="0"/>
                    </a:lnTo>
                    <a:lnTo>
                      <a:pt x="43" y="28"/>
                    </a:lnTo>
                    <a:lnTo>
                      <a:pt x="11" y="77"/>
                    </a:lnTo>
                    <a:lnTo>
                      <a:pt x="0" y="142"/>
                    </a:lnTo>
                    <a:lnTo>
                      <a:pt x="11" y="230"/>
                    </a:lnTo>
                    <a:lnTo>
                      <a:pt x="54" y="328"/>
                    </a:lnTo>
                    <a:lnTo>
                      <a:pt x="130" y="394"/>
                    </a:lnTo>
                    <a:lnTo>
                      <a:pt x="190" y="426"/>
                    </a:lnTo>
                    <a:lnTo>
                      <a:pt x="250" y="437"/>
                    </a:lnTo>
                    <a:lnTo>
                      <a:pt x="299" y="421"/>
                    </a:lnTo>
                    <a:lnTo>
                      <a:pt x="326" y="394"/>
                    </a:lnTo>
                    <a:lnTo>
                      <a:pt x="343" y="328"/>
                    </a:lnTo>
                    <a:lnTo>
                      <a:pt x="338" y="251"/>
                    </a:lnTo>
                    <a:lnTo>
                      <a:pt x="320" y="187"/>
                    </a:lnTo>
                    <a:lnTo>
                      <a:pt x="429" y="126"/>
                    </a:lnTo>
                    <a:lnTo>
                      <a:pt x="441" y="99"/>
                    </a:lnTo>
                    <a:lnTo>
                      <a:pt x="429" y="87"/>
                    </a:lnTo>
                    <a:lnTo>
                      <a:pt x="310" y="159"/>
                    </a:lnTo>
                    <a:lnTo>
                      <a:pt x="288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7b0a14"/>
                  </a:solidFill>
                  <a:latin typeface="Arial"/>
                </a:endParaRPr>
              </a:p>
            </p:txBody>
          </p:sp>
          <p:sp>
            <p:nvSpPr>
              <p:cNvPr id="1106" name="Freeform 53"/>
              <p:cNvSpPr/>
              <p:nvPr/>
            </p:nvSpPr>
            <p:spPr>
              <a:xfrm>
                <a:off x="7128000" y="2173320"/>
                <a:ext cx="279720" cy="589680"/>
              </a:xfrm>
              <a:custGeom>
                <a:avLst/>
                <a:gdLst>
                  <a:gd name="textAreaLeft" fmla="*/ 0 w 279720"/>
                  <a:gd name="textAreaRight" fmla="*/ 280080 w 279720"/>
                  <a:gd name="textAreaTop" fmla="*/ 0 h 589680"/>
                  <a:gd name="textAreaBottom" fmla="*/ 590040 h 589680"/>
                </a:gdLst>
                <a:ahLst/>
                <a:rect l="textAreaLeft" t="textAreaTop" r="textAreaRight" b="textAreaBottom"/>
                <a:pathLst>
                  <a:path w="393" h="976">
                    <a:moveTo>
                      <a:pt x="109" y="824"/>
                    </a:moveTo>
                    <a:lnTo>
                      <a:pt x="38" y="878"/>
                    </a:lnTo>
                    <a:lnTo>
                      <a:pt x="16" y="895"/>
                    </a:lnTo>
                    <a:lnTo>
                      <a:pt x="0" y="933"/>
                    </a:lnTo>
                    <a:lnTo>
                      <a:pt x="22" y="971"/>
                    </a:lnTo>
                    <a:lnTo>
                      <a:pt x="43" y="976"/>
                    </a:lnTo>
                    <a:lnTo>
                      <a:pt x="109" y="955"/>
                    </a:lnTo>
                    <a:lnTo>
                      <a:pt x="207" y="878"/>
                    </a:lnTo>
                    <a:lnTo>
                      <a:pt x="295" y="786"/>
                    </a:lnTo>
                    <a:lnTo>
                      <a:pt x="388" y="682"/>
                    </a:lnTo>
                    <a:lnTo>
                      <a:pt x="393" y="638"/>
                    </a:lnTo>
                    <a:lnTo>
                      <a:pt x="393" y="519"/>
                    </a:lnTo>
                    <a:lnTo>
                      <a:pt x="366" y="333"/>
                    </a:lnTo>
                    <a:lnTo>
                      <a:pt x="382" y="224"/>
                    </a:lnTo>
                    <a:lnTo>
                      <a:pt x="393" y="180"/>
                    </a:lnTo>
                    <a:lnTo>
                      <a:pt x="377" y="158"/>
                    </a:lnTo>
                    <a:lnTo>
                      <a:pt x="338" y="137"/>
                    </a:lnTo>
                    <a:lnTo>
                      <a:pt x="311" y="120"/>
                    </a:lnTo>
                    <a:lnTo>
                      <a:pt x="327" y="22"/>
                    </a:lnTo>
                    <a:lnTo>
                      <a:pt x="316" y="0"/>
                    </a:lnTo>
                    <a:lnTo>
                      <a:pt x="295" y="6"/>
                    </a:lnTo>
                    <a:lnTo>
                      <a:pt x="284" y="131"/>
                    </a:lnTo>
                    <a:lnTo>
                      <a:pt x="273" y="164"/>
                    </a:lnTo>
                    <a:lnTo>
                      <a:pt x="268" y="185"/>
                    </a:lnTo>
                    <a:lnTo>
                      <a:pt x="224" y="169"/>
                    </a:lnTo>
                    <a:lnTo>
                      <a:pt x="191" y="169"/>
                    </a:lnTo>
                    <a:lnTo>
                      <a:pt x="191" y="191"/>
                    </a:lnTo>
                    <a:lnTo>
                      <a:pt x="213" y="208"/>
                    </a:lnTo>
                    <a:lnTo>
                      <a:pt x="252" y="208"/>
                    </a:lnTo>
                    <a:lnTo>
                      <a:pt x="279" y="229"/>
                    </a:lnTo>
                    <a:lnTo>
                      <a:pt x="300" y="267"/>
                    </a:lnTo>
                    <a:lnTo>
                      <a:pt x="322" y="328"/>
                    </a:lnTo>
                    <a:lnTo>
                      <a:pt x="338" y="447"/>
                    </a:lnTo>
                    <a:lnTo>
                      <a:pt x="338" y="556"/>
                    </a:lnTo>
                    <a:lnTo>
                      <a:pt x="327" y="644"/>
                    </a:lnTo>
                    <a:lnTo>
                      <a:pt x="306" y="682"/>
                    </a:lnTo>
                    <a:lnTo>
                      <a:pt x="229" y="737"/>
                    </a:lnTo>
                    <a:lnTo>
                      <a:pt x="147" y="786"/>
                    </a:lnTo>
                    <a:lnTo>
                      <a:pt x="109" y="8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7b0a14"/>
                  </a:solidFill>
                  <a:latin typeface="Arial"/>
                </a:endParaRPr>
              </a:p>
            </p:txBody>
          </p:sp>
          <p:sp>
            <p:nvSpPr>
              <p:cNvPr id="1107" name="Freeform 54"/>
              <p:cNvSpPr/>
              <p:nvPr/>
            </p:nvSpPr>
            <p:spPr>
              <a:xfrm>
                <a:off x="6788160" y="2717280"/>
                <a:ext cx="254160" cy="3564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355" h="589">
                    <a:moveTo>
                      <a:pt x="355" y="16"/>
                    </a:moveTo>
                    <a:lnTo>
                      <a:pt x="316" y="0"/>
                    </a:lnTo>
                    <a:lnTo>
                      <a:pt x="234" y="5"/>
                    </a:lnTo>
                    <a:lnTo>
                      <a:pt x="163" y="60"/>
                    </a:lnTo>
                    <a:lnTo>
                      <a:pt x="59" y="175"/>
                    </a:lnTo>
                    <a:lnTo>
                      <a:pt x="5" y="267"/>
                    </a:lnTo>
                    <a:lnTo>
                      <a:pt x="0" y="300"/>
                    </a:lnTo>
                    <a:lnTo>
                      <a:pt x="27" y="360"/>
                    </a:lnTo>
                    <a:lnTo>
                      <a:pt x="86" y="387"/>
                    </a:lnTo>
                    <a:lnTo>
                      <a:pt x="163" y="420"/>
                    </a:lnTo>
                    <a:lnTo>
                      <a:pt x="224" y="436"/>
                    </a:lnTo>
                    <a:lnTo>
                      <a:pt x="251" y="464"/>
                    </a:lnTo>
                    <a:lnTo>
                      <a:pt x="234" y="502"/>
                    </a:lnTo>
                    <a:lnTo>
                      <a:pt x="191" y="546"/>
                    </a:lnTo>
                    <a:lnTo>
                      <a:pt x="136" y="551"/>
                    </a:lnTo>
                    <a:lnTo>
                      <a:pt x="98" y="534"/>
                    </a:lnTo>
                    <a:lnTo>
                      <a:pt x="76" y="551"/>
                    </a:lnTo>
                    <a:lnTo>
                      <a:pt x="81" y="573"/>
                    </a:lnTo>
                    <a:lnTo>
                      <a:pt x="125" y="589"/>
                    </a:lnTo>
                    <a:lnTo>
                      <a:pt x="191" y="589"/>
                    </a:lnTo>
                    <a:lnTo>
                      <a:pt x="251" y="573"/>
                    </a:lnTo>
                    <a:lnTo>
                      <a:pt x="284" y="551"/>
                    </a:lnTo>
                    <a:lnTo>
                      <a:pt x="306" y="512"/>
                    </a:lnTo>
                    <a:lnTo>
                      <a:pt x="316" y="469"/>
                    </a:lnTo>
                    <a:lnTo>
                      <a:pt x="289" y="430"/>
                    </a:lnTo>
                    <a:lnTo>
                      <a:pt x="224" y="403"/>
                    </a:lnTo>
                    <a:lnTo>
                      <a:pt x="147" y="382"/>
                    </a:lnTo>
                    <a:lnTo>
                      <a:pt x="81" y="344"/>
                    </a:lnTo>
                    <a:lnTo>
                      <a:pt x="65" y="311"/>
                    </a:lnTo>
                    <a:lnTo>
                      <a:pt x="76" y="251"/>
                    </a:lnTo>
                    <a:lnTo>
                      <a:pt x="125" y="175"/>
                    </a:lnTo>
                    <a:lnTo>
                      <a:pt x="186" y="130"/>
                    </a:lnTo>
                    <a:lnTo>
                      <a:pt x="279" y="98"/>
                    </a:lnTo>
                    <a:lnTo>
                      <a:pt x="355" y="82"/>
                    </a:lnTo>
                    <a:lnTo>
                      <a:pt x="355" y="37"/>
                    </a:lnTo>
                    <a:lnTo>
                      <a:pt x="35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7b0a14"/>
                  </a:solidFill>
                  <a:latin typeface="Arial"/>
                </a:endParaRPr>
              </a:p>
            </p:txBody>
          </p:sp>
          <p:sp>
            <p:nvSpPr>
              <p:cNvPr id="1108" name="Freeform 55"/>
              <p:cNvSpPr/>
              <p:nvPr/>
            </p:nvSpPr>
            <p:spPr>
              <a:xfrm>
                <a:off x="6995160" y="2701440"/>
                <a:ext cx="237240" cy="437760"/>
              </a:xfrm>
              <a:custGeom>
                <a:avLst/>
                <a:gdLst>
                  <a:gd name="textAreaLeft" fmla="*/ 0 w 237240"/>
                  <a:gd name="textAreaRight" fmla="*/ 237600 w 237240"/>
                  <a:gd name="textAreaTop" fmla="*/ 0 h 437760"/>
                  <a:gd name="textAreaBottom" fmla="*/ 438120 h 437760"/>
                </a:gdLst>
                <a:ahLst/>
                <a:rect l="textAreaLeft" t="textAreaTop" r="textAreaRight" b="textAreaBottom"/>
                <a:pathLst>
                  <a:path w="333" h="725">
                    <a:moveTo>
                      <a:pt x="290" y="229"/>
                    </a:moveTo>
                    <a:lnTo>
                      <a:pt x="256" y="93"/>
                    </a:lnTo>
                    <a:lnTo>
                      <a:pt x="218" y="27"/>
                    </a:lnTo>
                    <a:lnTo>
                      <a:pt x="136" y="0"/>
                    </a:lnTo>
                    <a:lnTo>
                      <a:pt x="54" y="11"/>
                    </a:lnTo>
                    <a:lnTo>
                      <a:pt x="17" y="82"/>
                    </a:lnTo>
                    <a:lnTo>
                      <a:pt x="22" y="169"/>
                    </a:lnTo>
                    <a:lnTo>
                      <a:pt x="44" y="311"/>
                    </a:lnTo>
                    <a:lnTo>
                      <a:pt x="44" y="436"/>
                    </a:lnTo>
                    <a:lnTo>
                      <a:pt x="17" y="545"/>
                    </a:lnTo>
                    <a:lnTo>
                      <a:pt x="0" y="605"/>
                    </a:lnTo>
                    <a:lnTo>
                      <a:pt x="11" y="659"/>
                    </a:lnTo>
                    <a:lnTo>
                      <a:pt x="49" y="687"/>
                    </a:lnTo>
                    <a:lnTo>
                      <a:pt x="99" y="714"/>
                    </a:lnTo>
                    <a:lnTo>
                      <a:pt x="147" y="725"/>
                    </a:lnTo>
                    <a:lnTo>
                      <a:pt x="208" y="725"/>
                    </a:lnTo>
                    <a:lnTo>
                      <a:pt x="279" y="670"/>
                    </a:lnTo>
                    <a:lnTo>
                      <a:pt x="333" y="556"/>
                    </a:lnTo>
                    <a:lnTo>
                      <a:pt x="328" y="452"/>
                    </a:lnTo>
                    <a:lnTo>
                      <a:pt x="295" y="332"/>
                    </a:lnTo>
                    <a:lnTo>
                      <a:pt x="290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7b0a14"/>
                  </a:solidFill>
                  <a:latin typeface="Arial"/>
                </a:endParaRPr>
              </a:p>
            </p:txBody>
          </p:sp>
          <p:sp>
            <p:nvSpPr>
              <p:cNvPr id="1109" name="Freeform 56"/>
              <p:cNvSpPr/>
              <p:nvPr/>
            </p:nvSpPr>
            <p:spPr>
              <a:xfrm>
                <a:off x="6923880" y="3057120"/>
                <a:ext cx="179640" cy="63324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53" h="1048">
                    <a:moveTo>
                      <a:pt x="241" y="16"/>
                    </a:moveTo>
                    <a:lnTo>
                      <a:pt x="176" y="0"/>
                    </a:lnTo>
                    <a:lnTo>
                      <a:pt x="137" y="16"/>
                    </a:lnTo>
                    <a:lnTo>
                      <a:pt x="121" y="70"/>
                    </a:lnTo>
                    <a:lnTo>
                      <a:pt x="137" y="370"/>
                    </a:lnTo>
                    <a:lnTo>
                      <a:pt x="137" y="441"/>
                    </a:lnTo>
                    <a:lnTo>
                      <a:pt x="116" y="573"/>
                    </a:lnTo>
                    <a:lnTo>
                      <a:pt x="110" y="725"/>
                    </a:lnTo>
                    <a:lnTo>
                      <a:pt x="121" y="802"/>
                    </a:lnTo>
                    <a:lnTo>
                      <a:pt x="110" y="845"/>
                    </a:lnTo>
                    <a:lnTo>
                      <a:pt x="34" y="911"/>
                    </a:lnTo>
                    <a:lnTo>
                      <a:pt x="0" y="993"/>
                    </a:lnTo>
                    <a:lnTo>
                      <a:pt x="7" y="1020"/>
                    </a:lnTo>
                    <a:lnTo>
                      <a:pt x="66" y="1048"/>
                    </a:lnTo>
                    <a:lnTo>
                      <a:pt x="82" y="1036"/>
                    </a:lnTo>
                    <a:lnTo>
                      <a:pt x="89" y="987"/>
                    </a:lnTo>
                    <a:lnTo>
                      <a:pt x="105" y="916"/>
                    </a:lnTo>
                    <a:lnTo>
                      <a:pt x="132" y="884"/>
                    </a:lnTo>
                    <a:lnTo>
                      <a:pt x="164" y="862"/>
                    </a:lnTo>
                    <a:lnTo>
                      <a:pt x="192" y="834"/>
                    </a:lnTo>
                    <a:lnTo>
                      <a:pt x="198" y="813"/>
                    </a:lnTo>
                    <a:lnTo>
                      <a:pt x="181" y="786"/>
                    </a:lnTo>
                    <a:lnTo>
                      <a:pt x="164" y="769"/>
                    </a:lnTo>
                    <a:lnTo>
                      <a:pt x="153" y="704"/>
                    </a:lnTo>
                    <a:lnTo>
                      <a:pt x="164" y="567"/>
                    </a:lnTo>
                    <a:lnTo>
                      <a:pt x="203" y="409"/>
                    </a:lnTo>
                    <a:lnTo>
                      <a:pt x="241" y="283"/>
                    </a:lnTo>
                    <a:lnTo>
                      <a:pt x="253" y="131"/>
                    </a:lnTo>
                    <a:lnTo>
                      <a:pt x="24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7b0a14"/>
                  </a:solidFill>
                  <a:latin typeface="Arial"/>
                </a:endParaRPr>
              </a:p>
            </p:txBody>
          </p:sp>
          <p:sp>
            <p:nvSpPr>
              <p:cNvPr id="1110" name="Freeform 57"/>
              <p:cNvSpPr/>
              <p:nvPr/>
            </p:nvSpPr>
            <p:spPr>
              <a:xfrm>
                <a:off x="7119720" y="3057120"/>
                <a:ext cx="295920" cy="534240"/>
              </a:xfrm>
              <a:custGeom>
                <a:avLst/>
                <a:gdLst>
                  <a:gd name="textAreaLeft" fmla="*/ 0 w 295920"/>
                  <a:gd name="textAreaRight" fmla="*/ 296280 w 295920"/>
                  <a:gd name="textAreaTop" fmla="*/ 0 h 534240"/>
                  <a:gd name="textAreaBottom" fmla="*/ 534600 h 534240"/>
                </a:gdLst>
                <a:ahLst/>
                <a:rect l="textAreaLeft" t="textAreaTop" r="textAreaRight" b="textAreaBottom"/>
                <a:pathLst>
                  <a:path w="415" h="884">
                    <a:moveTo>
                      <a:pt x="136" y="131"/>
                    </a:moveTo>
                    <a:lnTo>
                      <a:pt x="126" y="43"/>
                    </a:lnTo>
                    <a:lnTo>
                      <a:pt x="77" y="0"/>
                    </a:lnTo>
                    <a:lnTo>
                      <a:pt x="6" y="5"/>
                    </a:lnTo>
                    <a:lnTo>
                      <a:pt x="0" y="43"/>
                    </a:lnTo>
                    <a:lnTo>
                      <a:pt x="6" y="125"/>
                    </a:lnTo>
                    <a:lnTo>
                      <a:pt x="43" y="250"/>
                    </a:lnTo>
                    <a:lnTo>
                      <a:pt x="72" y="343"/>
                    </a:lnTo>
                    <a:lnTo>
                      <a:pt x="104" y="468"/>
                    </a:lnTo>
                    <a:lnTo>
                      <a:pt x="115" y="577"/>
                    </a:lnTo>
                    <a:lnTo>
                      <a:pt x="115" y="665"/>
                    </a:lnTo>
                    <a:lnTo>
                      <a:pt x="99" y="731"/>
                    </a:lnTo>
                    <a:lnTo>
                      <a:pt x="82" y="752"/>
                    </a:lnTo>
                    <a:lnTo>
                      <a:pt x="82" y="774"/>
                    </a:lnTo>
                    <a:lnTo>
                      <a:pt x="104" y="807"/>
                    </a:lnTo>
                    <a:lnTo>
                      <a:pt x="142" y="818"/>
                    </a:lnTo>
                    <a:lnTo>
                      <a:pt x="202" y="818"/>
                    </a:lnTo>
                    <a:lnTo>
                      <a:pt x="311" y="845"/>
                    </a:lnTo>
                    <a:lnTo>
                      <a:pt x="344" y="884"/>
                    </a:lnTo>
                    <a:lnTo>
                      <a:pt x="393" y="861"/>
                    </a:lnTo>
                    <a:lnTo>
                      <a:pt x="415" y="807"/>
                    </a:lnTo>
                    <a:lnTo>
                      <a:pt x="393" y="786"/>
                    </a:lnTo>
                    <a:lnTo>
                      <a:pt x="300" y="774"/>
                    </a:lnTo>
                    <a:lnTo>
                      <a:pt x="197" y="774"/>
                    </a:lnTo>
                    <a:lnTo>
                      <a:pt x="153" y="768"/>
                    </a:lnTo>
                    <a:lnTo>
                      <a:pt x="142" y="736"/>
                    </a:lnTo>
                    <a:lnTo>
                      <a:pt x="153" y="676"/>
                    </a:lnTo>
                    <a:lnTo>
                      <a:pt x="159" y="572"/>
                    </a:lnTo>
                    <a:lnTo>
                      <a:pt x="147" y="458"/>
                    </a:lnTo>
                    <a:lnTo>
                      <a:pt x="131" y="305"/>
                    </a:lnTo>
                    <a:lnTo>
                      <a:pt x="136" y="174"/>
                    </a:lnTo>
                    <a:lnTo>
                      <a:pt x="136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7b0a14"/>
                  </a:solidFill>
                  <a:latin typeface="Arial"/>
                </a:endParaRPr>
              </a:p>
            </p:txBody>
          </p:sp>
        </p:grpSp>
        <p:sp>
          <p:nvSpPr>
            <p:cNvPr id="1111" name="AutoShape 58"/>
            <p:cNvSpPr/>
            <p:nvPr/>
          </p:nvSpPr>
          <p:spPr>
            <a:xfrm>
              <a:off x="6316560" y="1171440"/>
              <a:ext cx="2470320" cy="993600"/>
            </a:xfrm>
            <a:prstGeom prst="cloudCallout">
              <a:avLst>
                <a:gd name="adj1" fmla="val -18458"/>
                <a:gd name="adj2" fmla="val 64236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22400" indent="106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b0a14"/>
                  </a:solidFill>
                  <a:latin typeface="Arial"/>
                </a:rPr>
                <a:t>MoE: Quality of </a:t>
              </a:r>
              <a:endParaRPr b="0" lang="en-US" sz="1400" spc="-1" strike="noStrike">
                <a:solidFill>
                  <a:srgbClr val="7b0a14"/>
                </a:solidFill>
                <a:latin typeface="Arial"/>
              </a:endParaRPr>
            </a:p>
            <a:p>
              <a:pPr marL="122400" indent="106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b0a14"/>
                  </a:solidFill>
                  <a:latin typeface="Arial"/>
                </a:rPr>
                <a:t>Product / service,</a:t>
              </a:r>
              <a:endParaRPr b="0" lang="en-US" sz="1400" spc="-1" strike="noStrike">
                <a:solidFill>
                  <a:srgbClr val="7b0a14"/>
                </a:solidFill>
                <a:latin typeface="Arial"/>
              </a:endParaRPr>
            </a:p>
            <a:p>
              <a:pPr marL="122400" indent="106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b0a14"/>
                  </a:solidFill>
                  <a:latin typeface="Arial"/>
                </a:rPr>
                <a:t>speed of service</a:t>
              </a:r>
              <a:endParaRPr b="0" lang="en-US" sz="14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12" name="Text Box 59"/>
            <p:cNvSpPr/>
            <p:nvPr/>
          </p:nvSpPr>
          <p:spPr>
            <a:xfrm>
              <a:off x="7328520" y="277056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Customer</a:t>
              </a:r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</p:grpSp>
      <p:grpSp>
        <p:nvGrpSpPr>
          <p:cNvPr id="1113" name="Group 39"/>
          <p:cNvGrpSpPr/>
          <p:nvPr/>
        </p:nvGrpSpPr>
        <p:grpSpPr>
          <a:xfrm>
            <a:off x="6615000" y="4495680"/>
            <a:ext cx="2336760" cy="2133360"/>
            <a:chOff x="6615000" y="4495680"/>
            <a:chExt cx="2336760" cy="2133360"/>
          </a:xfrm>
        </p:grpSpPr>
        <p:pic>
          <p:nvPicPr>
            <p:cNvPr id="1114" name="" descr=""/>
            <p:cNvPicPr/>
            <p:nvPr/>
          </p:nvPicPr>
          <p:blipFill>
            <a:blip r:embed="rId1"/>
            <a:stretch/>
          </p:blipFill>
          <p:spPr>
            <a:xfrm>
              <a:off x="6615000" y="5028840"/>
              <a:ext cx="8571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5" name="AutoShape 62"/>
            <p:cNvSpPr/>
            <p:nvPr/>
          </p:nvSpPr>
          <p:spPr>
            <a:xfrm>
              <a:off x="7275240" y="4495680"/>
              <a:ext cx="1676520" cy="685800"/>
            </a:xfrm>
            <a:prstGeom prst="wedgeRoundRectCallout">
              <a:avLst>
                <a:gd name="adj1" fmla="val -50472"/>
                <a:gd name="adj2" fmla="val 69907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b0a14"/>
                  </a:solidFill>
                  <a:latin typeface="Arial"/>
                </a:rPr>
                <a:t>MoP: Cost</a:t>
              </a:r>
              <a:endParaRPr b="0" lang="en-US" sz="1400" spc="-1" strike="noStrike">
                <a:solidFill>
                  <a:srgbClr val="7b0a14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b0a14"/>
                  </a:solidFill>
                  <a:latin typeface="Arial"/>
                </a:rPr>
                <a:t>Exposure</a:t>
              </a:r>
              <a:endParaRPr b="0" lang="en-US" sz="1400" spc="-1" strike="noStrike">
                <a:solidFill>
                  <a:srgbClr val="7b0a14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b0a14"/>
                  </a:solidFill>
                  <a:latin typeface="Arial"/>
                </a:rPr>
                <a:t>Controls</a:t>
              </a:r>
              <a:endParaRPr b="0" lang="en-US" sz="14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16" name="Text Box 63"/>
            <p:cNvSpPr/>
            <p:nvPr/>
          </p:nvSpPr>
          <p:spPr>
            <a:xfrm>
              <a:off x="7374240" y="5835600"/>
              <a:ext cx="148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Stakeholder</a:t>
              </a:r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</p:grpSp>
      <p:sp>
        <p:nvSpPr>
          <p:cNvPr id="1117" name="AutoShape 65"/>
          <p:cNvSpPr/>
          <p:nvPr/>
        </p:nvSpPr>
        <p:spPr>
          <a:xfrm>
            <a:off x="7016760" y="3184560"/>
            <a:ext cx="1898640" cy="1050840"/>
          </a:xfrm>
          <a:custGeom>
            <a:avLst/>
            <a:gdLst>
              <a:gd name="textAreaLeft" fmla="*/ 373320 w 1898640"/>
              <a:gd name="textAreaRight" fmla="*/ 1525320 w 1898640"/>
              <a:gd name="textAreaTop" fmla="*/ 250920 h 1050840"/>
              <a:gd name="textAreaBottom" fmla="*/ 799920 h 1050840"/>
            </a:gdLst>
            <a:ahLst/>
            <a:rect l="textAreaLeft" t="textAreaTop" r="textAreaRight" b="textAreaBottom"/>
            <a:pathLst>
              <a:path w="21600" h="21600">
                <a:moveTo>
                  <a:pt x="0" y="5159"/>
                </a:moveTo>
                <a:lnTo>
                  <a:pt x="13469" y="5159"/>
                </a:lnTo>
                <a:lnTo>
                  <a:pt x="13469" y="0"/>
                </a:lnTo>
                <a:lnTo>
                  <a:pt x="21600" y="10800"/>
                </a:lnTo>
                <a:lnTo>
                  <a:pt x="13469" y="21600"/>
                </a:lnTo>
                <a:lnTo>
                  <a:pt x="13469" y="16441"/>
                </a:lnTo>
                <a:lnTo>
                  <a:pt x="0" y="16441"/>
                </a:lnTo>
                <a:lnTo>
                  <a:pt x="4247" y="10800"/>
                </a:lnTo>
                <a:lnTo>
                  <a:pt x="0" y="5159"/>
                </a:lnTo>
                <a:close/>
              </a:path>
            </a:pathLst>
          </a:custGeom>
          <a:solidFill>
            <a:srgbClr val="fd8b84"/>
          </a:solidFill>
          <a:ln w="9360">
            <a:solidFill>
              <a:srgbClr val="7b0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b0a14"/>
                </a:solidFill>
                <a:latin typeface="Arial"/>
              </a:rPr>
              <a:t>Passport process 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</p:txBody>
      </p:sp>
      <p:grpSp>
        <p:nvGrpSpPr>
          <p:cNvPr id="1118" name="Group 66"/>
          <p:cNvGrpSpPr/>
          <p:nvPr/>
        </p:nvGrpSpPr>
        <p:grpSpPr>
          <a:xfrm>
            <a:off x="114480" y="2205000"/>
            <a:ext cx="7157520" cy="3030480"/>
            <a:chOff x="114480" y="2205000"/>
            <a:chExt cx="7157520" cy="3030480"/>
          </a:xfrm>
        </p:grpSpPr>
        <p:sp>
          <p:nvSpPr>
            <p:cNvPr id="1119" name="Line 68"/>
            <p:cNvSpPr/>
            <p:nvPr/>
          </p:nvSpPr>
          <p:spPr>
            <a:xfrm flipV="1">
              <a:off x="5314680" y="3745080"/>
              <a:ext cx="869760" cy="1444320"/>
            </a:xfrm>
            <a:prstGeom prst="line">
              <a:avLst/>
            </a:prstGeom>
            <a:ln w="9360">
              <a:solidFill>
                <a:srgbClr val="fdb1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20" name="Line 69"/>
            <p:cNvSpPr/>
            <p:nvPr/>
          </p:nvSpPr>
          <p:spPr>
            <a:xfrm>
              <a:off x="1398600" y="3718080"/>
              <a:ext cx="5873400" cy="0"/>
            </a:xfrm>
            <a:prstGeom prst="line">
              <a:avLst/>
            </a:prstGeom>
            <a:ln w="9360">
              <a:solidFill>
                <a:srgbClr val="fdb1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21" name="AutoShape 70"/>
            <p:cNvSpPr/>
            <p:nvPr/>
          </p:nvSpPr>
          <p:spPr>
            <a:xfrm>
              <a:off x="114480" y="3257640"/>
              <a:ext cx="1423800" cy="914400"/>
            </a:xfrm>
            <a:custGeom>
              <a:avLst/>
              <a:gdLst>
                <a:gd name="textAreaLeft" fmla="*/ 0 w 1423800"/>
                <a:gd name="textAreaRight" fmla="*/ 1424160 w 1423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. Customer application</a:t>
              </a:r>
              <a:endParaRPr b="0" lang="en-US" sz="14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22" name="Line 71"/>
            <p:cNvSpPr/>
            <p:nvPr/>
          </p:nvSpPr>
          <p:spPr>
            <a:xfrm>
              <a:off x="1625400" y="2556720"/>
              <a:ext cx="1106280" cy="1135080"/>
            </a:xfrm>
            <a:prstGeom prst="line">
              <a:avLst/>
            </a:prstGeom>
            <a:ln w="9360">
              <a:solidFill>
                <a:srgbClr val="fdb1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23" name="AutoShape 72"/>
            <p:cNvSpPr/>
            <p:nvPr/>
          </p:nvSpPr>
          <p:spPr>
            <a:xfrm>
              <a:off x="1557360" y="2205000"/>
              <a:ext cx="1423440" cy="914400"/>
            </a:xfrm>
            <a:custGeom>
              <a:avLst/>
              <a:gdLst>
                <a:gd name="textAreaLeft" fmla="*/ 0 w 1423440"/>
                <a:gd name="textAreaRight" fmla="*/ 1423800 w 142344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. Review application</a:t>
              </a:r>
              <a:endParaRPr b="0" lang="en-US" sz="14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24" name="Line 73"/>
            <p:cNvSpPr/>
            <p:nvPr/>
          </p:nvSpPr>
          <p:spPr>
            <a:xfrm flipV="1">
              <a:off x="2047680" y="3745080"/>
              <a:ext cx="869760" cy="1444320"/>
            </a:xfrm>
            <a:prstGeom prst="line">
              <a:avLst/>
            </a:prstGeom>
            <a:ln w="9360">
              <a:solidFill>
                <a:srgbClr val="fdb1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25" name="AutoShape 74"/>
            <p:cNvSpPr/>
            <p:nvPr/>
          </p:nvSpPr>
          <p:spPr>
            <a:xfrm>
              <a:off x="1560240" y="4321080"/>
              <a:ext cx="1423800" cy="914400"/>
            </a:xfrm>
            <a:custGeom>
              <a:avLst/>
              <a:gdLst>
                <a:gd name="textAreaLeft" fmla="*/ 0 w 1423800"/>
                <a:gd name="textAreaRight" fmla="*/ 1424160 w 1423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. Process application</a:t>
              </a:r>
              <a:endParaRPr b="0" lang="en-US" sz="14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26" name="Line 75"/>
            <p:cNvSpPr/>
            <p:nvPr/>
          </p:nvSpPr>
          <p:spPr>
            <a:xfrm>
              <a:off x="3157560" y="2556720"/>
              <a:ext cx="1105920" cy="1135080"/>
            </a:xfrm>
            <a:prstGeom prst="line">
              <a:avLst/>
            </a:prstGeom>
            <a:ln w="9360">
              <a:solidFill>
                <a:srgbClr val="fdb1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27" name="AutoShape 76"/>
            <p:cNvSpPr/>
            <p:nvPr/>
          </p:nvSpPr>
          <p:spPr>
            <a:xfrm>
              <a:off x="3179520" y="2205000"/>
              <a:ext cx="1423800" cy="914400"/>
            </a:xfrm>
            <a:custGeom>
              <a:avLst/>
              <a:gdLst>
                <a:gd name="textAreaLeft" fmla="*/ 0 w 1423800"/>
                <a:gd name="textAreaRight" fmla="*/ 1424160 w 1423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. Initiate police verification</a:t>
              </a:r>
              <a:endParaRPr b="0" lang="en-US" sz="14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28" name="Line 77"/>
            <p:cNvSpPr/>
            <p:nvPr/>
          </p:nvSpPr>
          <p:spPr>
            <a:xfrm flipV="1">
              <a:off x="3578040" y="3745080"/>
              <a:ext cx="869760" cy="1444320"/>
            </a:xfrm>
            <a:prstGeom prst="line">
              <a:avLst/>
            </a:prstGeom>
            <a:ln w="9360">
              <a:solidFill>
                <a:srgbClr val="fdb1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29" name="AutoShape 78"/>
            <p:cNvSpPr/>
            <p:nvPr/>
          </p:nvSpPr>
          <p:spPr>
            <a:xfrm>
              <a:off x="3179520" y="4321080"/>
              <a:ext cx="1423800" cy="914400"/>
            </a:xfrm>
            <a:custGeom>
              <a:avLst/>
              <a:gdLst>
                <a:gd name="textAreaLeft" fmla="*/ 0 w 1423800"/>
                <a:gd name="textAreaRight" fmla="*/ 1424160 w 1423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. Update verification results</a:t>
              </a:r>
              <a:endParaRPr b="0" lang="en-US" sz="14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30" name="Line 79"/>
            <p:cNvSpPr/>
            <p:nvPr/>
          </p:nvSpPr>
          <p:spPr>
            <a:xfrm>
              <a:off x="4933800" y="2556720"/>
              <a:ext cx="1106280" cy="1135080"/>
            </a:xfrm>
            <a:prstGeom prst="line">
              <a:avLst/>
            </a:prstGeom>
            <a:ln w="9360">
              <a:solidFill>
                <a:srgbClr val="fdb1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31" name="AutoShape 80"/>
            <p:cNvSpPr/>
            <p:nvPr/>
          </p:nvSpPr>
          <p:spPr>
            <a:xfrm>
              <a:off x="4794120" y="2205000"/>
              <a:ext cx="1425240" cy="914400"/>
            </a:xfrm>
            <a:custGeom>
              <a:avLst/>
              <a:gdLst>
                <a:gd name="textAreaLeft" fmla="*/ 0 w 1425240"/>
                <a:gd name="textAreaRight" fmla="*/ 1425240 w 142524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. Prepare Passport</a:t>
              </a:r>
              <a:endParaRPr b="0" lang="en-US" sz="1400" spc="-1" strike="noStrike">
                <a:solidFill>
                  <a:srgbClr val="7b0a14"/>
                </a:solidFill>
                <a:latin typeface="Arial"/>
              </a:endParaRPr>
            </a:p>
          </p:txBody>
        </p:sp>
        <p:sp>
          <p:nvSpPr>
            <p:cNvPr id="1132" name="AutoShape 81"/>
            <p:cNvSpPr/>
            <p:nvPr/>
          </p:nvSpPr>
          <p:spPr>
            <a:xfrm>
              <a:off x="4794120" y="4321080"/>
              <a:ext cx="1425240" cy="914400"/>
            </a:xfrm>
            <a:custGeom>
              <a:avLst/>
              <a:gdLst>
                <a:gd name="textAreaLeft" fmla="*/ 0 w 1425240"/>
                <a:gd name="textAreaRight" fmla="*/ 1425240 w 142524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7b0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7. Dispatch Passport</a:t>
              </a:r>
              <a:endParaRPr b="0" lang="en-US" sz="1400" spc="-1" strike="noStrike">
                <a:solidFill>
                  <a:srgbClr val="7b0a14"/>
                </a:solidFill>
                <a:latin typeface="Arial"/>
              </a:endParaRPr>
            </a:p>
          </p:txBody>
        </p:sp>
      </p:grpSp>
      <p:sp>
        <p:nvSpPr>
          <p:cNvPr id="1133" name="AutoShape 89"/>
          <p:cNvSpPr/>
          <p:nvPr/>
        </p:nvSpPr>
        <p:spPr>
          <a:xfrm>
            <a:off x="114480" y="1900080"/>
            <a:ext cx="1143000" cy="1285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7b0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b0a14"/>
                </a:solidFill>
                <a:latin typeface="Arial"/>
              </a:rPr>
              <a:t>CTP 1- 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b0a14"/>
                </a:solidFill>
                <a:latin typeface="Arial"/>
              </a:rPr>
              <a:t>Wait time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34" name="AutoShape 89"/>
          <p:cNvSpPr/>
          <p:nvPr/>
        </p:nvSpPr>
        <p:spPr>
          <a:xfrm>
            <a:off x="4794120" y="1211400"/>
            <a:ext cx="1143000" cy="9936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7b0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b0a14"/>
                </a:solidFill>
                <a:latin typeface="Arial"/>
              </a:rPr>
              <a:t>CTP 6 – 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b0a14"/>
                </a:solidFill>
                <a:latin typeface="Arial"/>
              </a:rPr>
              <a:t>Error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35" name="TextBox 37"/>
          <p:cNvSpPr/>
          <p:nvPr/>
        </p:nvSpPr>
        <p:spPr>
          <a:xfrm>
            <a:off x="160200" y="6307200"/>
            <a:ext cx="22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b0a14"/>
                </a:solidFill>
                <a:latin typeface="Arial"/>
              </a:rPr>
              <a:t>TAT - Turn Around Time</a:t>
            </a:r>
            <a:endParaRPr b="0" lang="en-US" sz="1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36" name="AutoShape 89"/>
          <p:cNvSpPr/>
          <p:nvPr/>
        </p:nvSpPr>
        <p:spPr>
          <a:xfrm>
            <a:off x="2924280" y="3224160"/>
            <a:ext cx="1143000" cy="1285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7b0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b0a14"/>
                </a:solidFill>
                <a:latin typeface="Arial"/>
              </a:rPr>
              <a:t>CTP 5- 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b0a14"/>
                </a:solidFill>
                <a:latin typeface="Arial"/>
              </a:rPr>
              <a:t>TAT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37" name="AutoShape 89"/>
          <p:cNvSpPr/>
          <p:nvPr/>
        </p:nvSpPr>
        <p:spPr>
          <a:xfrm>
            <a:off x="507960" y="4976640"/>
            <a:ext cx="1704960" cy="1285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7b0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b0a14"/>
                </a:solidFill>
                <a:latin typeface="Arial"/>
              </a:rPr>
              <a:t>CTP 3- 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b0a14"/>
                </a:solidFill>
                <a:latin typeface="Arial"/>
              </a:rPr>
              <a:t>Data entry errors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hat variables to select for data collection?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spcBef>
                <a:spcPts val="451"/>
              </a:spcBef>
              <a:spcAft>
                <a:spcPts val="451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Broadly identify the universal set of independent variables (CTP) impacting the CTQ under consideration</a:t>
            </a:r>
            <a:endParaRPr b="0" lang="en-US" sz="1800" spc="-1" strike="noStrike">
              <a:solidFill>
                <a:srgbClr val="bf0509"/>
              </a:solidFill>
              <a:latin typeface="Arial"/>
            </a:endParaRPr>
          </a:p>
          <a:p>
            <a:pPr lvl="1" marL="681120" indent="-223920">
              <a:spcAft>
                <a:spcPts val="451"/>
              </a:spcAft>
              <a:buClr>
                <a:srgbClr val="1c1c1c"/>
              </a:buClr>
              <a:buFont typeface="Arial"/>
              <a:buChar char="−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Y = 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</a:rPr>
              <a:t>f(X</a:t>
            </a:r>
            <a:r>
              <a:rPr b="0" i="1" lang="en-US" sz="1800" spc="-1" strike="noStrike" baseline="-25000">
                <a:solidFill>
                  <a:srgbClr val="1c1c1c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</a:rPr>
              <a:t>, X</a:t>
            </a:r>
            <a:r>
              <a:rPr b="0" i="1" lang="en-US" sz="1800" spc="-1" strike="noStrike" baseline="-25000">
                <a:solidFill>
                  <a:srgbClr val="1c1c1c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</a:rPr>
              <a:t>, X</a:t>
            </a:r>
            <a:r>
              <a:rPr b="0" i="1" lang="en-US" sz="1800" spc="-1" strike="noStrike" baseline="-25000">
                <a:solidFill>
                  <a:srgbClr val="1c1c1c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</a:rPr>
              <a:t>,….X</a:t>
            </a:r>
            <a:r>
              <a:rPr b="0" i="1" lang="en-US" sz="1800" spc="-1" strike="noStrike" baseline="-25000">
                <a:solidFill>
                  <a:srgbClr val="1c1c1c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where Y is the CTQ (dependent variable) and X</a:t>
            </a:r>
            <a:r>
              <a:rPr b="0" lang="en-US" sz="1800" spc="-1" strike="noStrike" baseline="-25000">
                <a:solidFill>
                  <a:srgbClr val="1c1c1c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s are the independent variables (CTPs)</a:t>
            </a:r>
            <a:endParaRPr b="0" lang="en-US" sz="1800" spc="-1" strike="noStrike">
              <a:solidFill>
                <a:srgbClr val="bf0509"/>
              </a:solidFill>
              <a:latin typeface="Arial"/>
            </a:endParaRPr>
          </a:p>
          <a:p>
            <a:pPr marL="222120" indent="-222120">
              <a:spcBef>
                <a:spcPts val="451"/>
              </a:spcBef>
              <a:spcAft>
                <a:spcPts val="451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Use a structured process for short-listing the CTPs for which data collection needs to be done</a:t>
            </a:r>
            <a:endParaRPr b="0" lang="en-US" sz="1800" spc="-1" strike="noStrike">
              <a:solidFill>
                <a:srgbClr val="bf0509"/>
              </a:solidFill>
              <a:latin typeface="Arial"/>
            </a:endParaRPr>
          </a:p>
          <a:p>
            <a:pPr marL="22212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800" spc="-1" strike="noStrike">
              <a:solidFill>
                <a:srgbClr val="bf0509"/>
              </a:solidFill>
              <a:latin typeface="Arial"/>
            </a:endParaRPr>
          </a:p>
          <a:p>
            <a:pPr marL="222120" indent="-222120">
              <a:spcBef>
                <a:spcPts val="451"/>
              </a:spcBef>
              <a:spcAft>
                <a:spcPts val="451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e.g.: Time taken for issuance of passport is a CTQ in the passport issuance process</a:t>
            </a:r>
            <a:endParaRPr b="0" lang="en-US" sz="1800" spc="-1" strike="noStrike">
              <a:solidFill>
                <a:srgbClr val="bf0509"/>
              </a:solidFill>
              <a:latin typeface="Arial"/>
            </a:endParaRPr>
          </a:p>
          <a:p>
            <a:pPr marL="222120" indent="-222120">
              <a:spcBef>
                <a:spcPts val="451"/>
              </a:spcBef>
              <a:spcAft>
                <a:spcPts val="451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i="1" lang="en-US" sz="1800" spc="-1" strike="noStrike">
                <a:solidFill>
                  <a:srgbClr val="1c1c1c"/>
                </a:solidFill>
                <a:latin typeface="Arial"/>
              </a:rPr>
              <a:t>Time taken for passport issue = f (time taken to file application, processing time, police verification time, …)</a:t>
            </a:r>
            <a:endParaRPr b="0" lang="en-US" sz="1800" spc="-1" strike="noStrike">
              <a:solidFill>
                <a:srgbClr val="bf0509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ethod for short listing data collection variables:</a:t>
            </a:r>
            <a:br>
              <a:rPr sz="2400"/>
            </a:b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ause and Effect Matrix</a:t>
            </a:r>
            <a:endParaRPr b="0" lang="en-US" sz="2400" spc="-1" strike="noStrike">
              <a:solidFill>
                <a:srgbClr val="7b0a14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59840" y="163800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spcBef>
                <a:spcPts val="400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List the CTQs across the top of a matrix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222120" indent="-222120">
              <a:spcBef>
                <a:spcPts val="400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Rank and assign scores to each CTQ according to its importance to the customer.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222120" indent="-222120">
              <a:spcBef>
                <a:spcPts val="400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List the CTPs on the left side of the matrix.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222120" indent="-222120">
              <a:spcBef>
                <a:spcPts val="400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Determine correlation scores between each cause and CTQ based on the strength of their relationship (E.g. 1 – weak, 3 – some, 9 – strong) 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  <a:p>
            <a:pPr marL="222120" indent="-222120">
              <a:spcBef>
                <a:spcPts val="400"/>
              </a:spcBef>
              <a:spcAft>
                <a:spcPts val="400"/>
              </a:spcAft>
              <a:buClr>
                <a:srgbClr val="1c1c1c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ross multiply correlation scores with priority scores and add across for each cause</a:t>
            </a:r>
            <a:endParaRPr b="0" lang="en-US" sz="1600" spc="-1" strike="noStrike">
              <a:solidFill>
                <a:srgbClr val="bf0509"/>
              </a:solidFill>
              <a:latin typeface="Arial"/>
            </a:endParaRPr>
          </a:p>
        </p:txBody>
      </p:sp>
      <p:graphicFrame>
        <p:nvGraphicFramePr>
          <p:cNvPr id="1142" name=""/>
          <p:cNvGraphicFramePr/>
          <p:nvPr/>
        </p:nvGraphicFramePr>
        <p:xfrm>
          <a:off x="581040" y="3986280"/>
          <a:ext cx="4705200" cy="2158920"/>
        </p:xfrm>
        <a:graphic>
          <a:graphicData uri="http://schemas.openxmlformats.org/drawingml/2006/table">
            <a:tbl>
              <a:tblPr/>
              <a:tblGrid>
                <a:gridCol w="784080"/>
                <a:gridCol w="784440"/>
                <a:gridCol w="785880"/>
                <a:gridCol w="782640"/>
                <a:gridCol w="784080"/>
                <a:gridCol w="78408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1368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Imp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1368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CTP1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1368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CTP2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1368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CTP3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1368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CTP4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b0a14"/>
                      </a:solidFill>
                    </a:lnL>
                    <a:lnR w="13680">
                      <a:solidFill>
                        <a:srgbClr val="7b0a14"/>
                      </a:solidFill>
                    </a:lnR>
                    <a:lnT w="1368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CTQ1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0.5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b0a14"/>
                      </a:solidFill>
                    </a:lnL>
                    <a:lnR w="1368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CTQ2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0.3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b0a14"/>
                      </a:solidFill>
                    </a:lnL>
                    <a:lnR w="1368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CTQ3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0.2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b0a14"/>
                      </a:solidFill>
                    </a:lnL>
                    <a:lnR w="1368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5760">
                      <a:solidFill>
                        <a:srgbClr val="7b0a14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Score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1368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1368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1368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1.4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1368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b0a14"/>
                      </a:solidFill>
                    </a:lnL>
                    <a:lnR w="576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13680">
                      <a:solidFill>
                        <a:srgbClr val="7b0a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b0a14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7b0a1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b0a14"/>
                      </a:solidFill>
                    </a:lnL>
                    <a:lnR w="13680">
                      <a:solidFill>
                        <a:srgbClr val="7b0a14"/>
                      </a:solidFill>
                    </a:lnR>
                    <a:lnT w="5760">
                      <a:solidFill>
                        <a:srgbClr val="7b0a14"/>
                      </a:solidFill>
                    </a:lnT>
                    <a:lnB w="13680">
                      <a:solidFill>
                        <a:srgbClr val="7b0a1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3" name="Rounded Rectangular Callout 5"/>
          <p:cNvSpPr/>
          <p:nvPr/>
        </p:nvSpPr>
        <p:spPr>
          <a:xfrm>
            <a:off x="6022800" y="3986280"/>
            <a:ext cx="2943360" cy="1285920"/>
          </a:xfrm>
          <a:prstGeom prst="wedgeRoundRectCallout">
            <a:avLst>
              <a:gd name="adj1" fmla="val -63064"/>
              <a:gd name="adj2" fmla="val 25712"/>
              <a:gd name="adj3" fmla="val 16667"/>
            </a:avLst>
          </a:prstGeom>
          <a:solidFill>
            <a:srgbClr val="fd8b84"/>
          </a:solidFill>
          <a:ln w="9360">
            <a:solidFill>
              <a:srgbClr val="7b0a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b0a14"/>
                </a:solidFill>
                <a:latin typeface="Arial"/>
              </a:rPr>
              <a:t>Data should be collected on all CTPs which have high overall correlation with CTQs</a:t>
            </a:r>
            <a:endParaRPr b="0" lang="en-US" sz="1600" spc="-1" strike="noStrike">
              <a:solidFill>
                <a:srgbClr val="7b0a14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8:46:34Z</dcterms:created>
  <dc:creator/>
  <dc:description/>
  <dc:language>en-US</dc:language>
  <cp:lastModifiedBy>Nisg</cp:lastModifiedBy>
  <cp:lastPrinted>2012-04-09T12:07:33Z</cp:lastPrinted>
  <dcterms:modified xsi:type="dcterms:W3CDTF">2012-04-12T11:31:35Z</dcterms:modified>
  <cp:revision>764</cp:revision>
  <dc:subject/>
  <dc:title>No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B4 template type">
    <vt:lpwstr>Onscreen</vt:lpwstr>
  </property>
  <property fmtid="{D5CDD505-2E9C-101B-9397-08002B2CF9AE}" pid="3" name="TB4 template version">
    <vt:r8>4</vt:r8>
  </property>
</Properties>
</file>